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1.wmf" ContentType="image/x-wmf"/>
  <Override PartName="/ppt/media/image3.png" ContentType="image/pn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2.png" ContentType="image/png"/>
  <Override PartName="/ppt/media/image3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  <p:sldId id="341" r:id="rId95"/>
    <p:sldId id="342" r:id="rId96"/>
    <p:sldId id="343" r:id="rId97"/>
    <p:sldId id="344" r:id="rId98"/>
    <p:sldId id="345" r:id="rId99"/>
    <p:sldId id="346" r:id="rId100"/>
    <p:sldId id="347" r:id="rId101"/>
    <p:sldId id="348" r:id="rId102"/>
    <p:sldId id="349" r:id="rId103"/>
    <p:sldId id="350" r:id="rId104"/>
    <p:sldId id="351" r:id="rId105"/>
    <p:sldId id="352" r:id="rId106"/>
    <p:sldId id="353" r:id="rId107"/>
    <p:sldId id="354" r:id="rId108"/>
    <p:sldId id="355" r:id="rId109"/>
    <p:sldId id="356" r:id="rId110"/>
    <p:sldId id="357" r:id="rId111"/>
    <p:sldId id="358" r:id="rId112"/>
    <p:sldId id="359" r:id="rId113"/>
    <p:sldId id="360" r:id="rId114"/>
    <p:sldId id="361" r:id="rId1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slide" Target="slides/slide86.xml"/><Relationship Id="rId96" Type="http://schemas.openxmlformats.org/officeDocument/2006/relationships/slide" Target="slides/slide87.xml"/><Relationship Id="rId97" Type="http://schemas.openxmlformats.org/officeDocument/2006/relationships/slide" Target="slides/slide88.xml"/><Relationship Id="rId98" Type="http://schemas.openxmlformats.org/officeDocument/2006/relationships/slide" Target="slides/slide89.xml"/><Relationship Id="rId99" Type="http://schemas.openxmlformats.org/officeDocument/2006/relationships/slide" Target="slides/slide90.xml"/><Relationship Id="rId100" Type="http://schemas.openxmlformats.org/officeDocument/2006/relationships/slide" Target="slides/slide91.xml"/><Relationship Id="rId101" Type="http://schemas.openxmlformats.org/officeDocument/2006/relationships/slide" Target="slides/slide92.xml"/><Relationship Id="rId102" Type="http://schemas.openxmlformats.org/officeDocument/2006/relationships/slide" Target="slides/slide93.xml"/><Relationship Id="rId103" Type="http://schemas.openxmlformats.org/officeDocument/2006/relationships/slide" Target="slides/slide94.xml"/><Relationship Id="rId104" Type="http://schemas.openxmlformats.org/officeDocument/2006/relationships/slide" Target="slides/slide95.xml"/><Relationship Id="rId105" Type="http://schemas.openxmlformats.org/officeDocument/2006/relationships/slide" Target="slides/slide96.xml"/><Relationship Id="rId106" Type="http://schemas.openxmlformats.org/officeDocument/2006/relationships/slide" Target="slides/slide97.xml"/><Relationship Id="rId107" Type="http://schemas.openxmlformats.org/officeDocument/2006/relationships/slide" Target="slides/slide98.xml"/><Relationship Id="rId108" Type="http://schemas.openxmlformats.org/officeDocument/2006/relationships/slide" Target="slides/slide99.xml"/><Relationship Id="rId109" Type="http://schemas.openxmlformats.org/officeDocument/2006/relationships/slide" Target="slides/slide100.xml"/><Relationship Id="rId110" Type="http://schemas.openxmlformats.org/officeDocument/2006/relationships/slide" Target="slides/slide101.xml"/><Relationship Id="rId111" Type="http://schemas.openxmlformats.org/officeDocument/2006/relationships/slide" Target="slides/slide102.xml"/><Relationship Id="rId112" Type="http://schemas.openxmlformats.org/officeDocument/2006/relationships/slide" Target="slides/slide103.xml"/><Relationship Id="rId113" Type="http://schemas.openxmlformats.org/officeDocument/2006/relationships/slide" Target="slides/slide104.xml"/><Relationship Id="rId114" Type="http://schemas.openxmlformats.org/officeDocument/2006/relationships/slide" Target="slides/slide105.xml"/><Relationship Id="rId115" Type="http://schemas.openxmlformats.org/officeDocument/2006/relationships/slide" Target="slides/slide10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C493-C665-46AC-8504-5A02CFFD380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809E-720C-4337-9182-993339040C44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335-F6F2-459E-9A22-9151AAAB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3EC-870F-4BC0-9E46-974C645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214-4FE4-4631-9901-2E1DBC7E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9A8-0934-4CA3-98BC-B2C7A925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314D-7BD3-4B70-A010-E83833F5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A684-773B-4973-8CED-C9B2B654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501A-EED9-4D37-A326-10B2CD1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AEE6-DAC2-4223-BFE1-E7ED0BCB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8628-A817-4676-8349-EBAF8EBA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D4C2-09CE-40A4-8650-C12E57F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2C7-AD1E-42AF-896A-F5C4416F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A34-058E-499A-B327-C8D03146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23AB-E6EB-4743-9EC5-C7A402F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FA14-0AAF-4A20-BEA8-1A79AAED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2637-DEFB-41EC-BAF0-5E803A47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29E1-FC41-47E6-B4DE-FDF1C1D0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2E2A-ECD2-4B2D-9F19-938DC2BA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1DFC-CC4B-47DC-8480-BE32BC32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B474-FF2F-42F6-A659-227A8540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AA05-194F-42BD-8D5D-BBACD9D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F9B0-075B-45A2-9ACF-B6E2548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0696E-1DCB-4798-9D0B-0B427548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67C-E40F-4272-8DDE-D6506DAD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7F57-7DD0-46A0-86F5-AFF4078D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997AD-E4AB-460B-8662-29EFA502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A549-9D55-4B61-B4D0-BF239A17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F190-2893-47E1-977C-F6100D8D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6633-4B59-435B-AB4D-5BC6C5DB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B5606-F178-4A6F-A003-5CE2B49C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A931-EE8F-44D8-9284-2C2AEBAC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E3D-C5BF-47C3-8D65-74A8416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1DC05-B4AA-4F54-8DD3-3E3F6ED1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286-CDFA-4CE7-BE02-57D766B3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BB0B-8670-4359-A955-6CB58A1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B930A-56C4-47DA-B245-B2DEF95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0E96-A125-4A49-A996-088F1A1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DA29-D1E5-449E-94E2-A33C6A2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53E0-3F5C-4696-8670-E985ACDA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203C-AD4E-4FBC-879B-88D3C2DF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8C9D-F860-44C4-93C1-34C8E35F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DF9E-8819-40E7-9BA8-F226914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CA831-9661-4E4F-8FB4-E1A5FF26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D655-19B6-4ED4-8F05-325586B1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1D6-ADE6-411F-893D-3239263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10B93-1316-4AF1-ACFC-0ADB9F84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4E793-DA5E-4C6C-8EDF-8B120533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EC8A-052E-4E30-93BD-0936E87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1C909-EEAA-4BBF-8F04-B36F9047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930B-9D0E-4C4B-9480-AADD8F21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9E4AD-215B-4057-89BC-B359F62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CABD9-C764-44D6-BA62-A78CE46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8A45-23E3-4179-97F9-AB763906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85FF-B73B-433D-883A-C65AC436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54DE-07EE-44FE-9696-73320EC7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602-847A-4E22-A05A-E31F3E1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3C9F-2AE9-4763-B017-C574D51B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C15FC-56E4-41D1-AF2A-4500193A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99A78-840C-4E0A-B9DC-9E3A29B4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D63B-7191-4718-905D-64FC995A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288B-E604-48D6-9CE0-A09A6E53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8C2F-5711-4F06-BD33-9A61C3DD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3C32-C68E-4530-9E37-8AD080FB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FFDE-3834-48D4-A58D-EDA6639C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0ACBB-FFC2-4288-B851-207C93D1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95E7-6C9B-4E1D-A1D2-80A96A6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6F6-508F-42A5-9AF9-00207AA4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16EB-9EA6-42AE-AE83-7D332D4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33BFA-3E70-49A5-9C29-AD27063E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8293-2FF1-496D-86EB-8B5E323C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E3F8-6BC9-4DD4-AF2D-59F9A9D8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C2CBB-FB28-4500-8CEF-F975530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CA8-491B-42D3-85B1-871BB1D4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D267-67E8-4D5D-A563-5F2B591A1200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519A-3D93-425F-8376-F74F0E05E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9D20-E53F-4C62-A3C4-E495DB650AE8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078-DCED-4C9E-9C11-69EF6BCC8E4B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D20-60BE-40A3-B574-BB5536F36B94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C641-3DCA-49D0-B36E-B825200DA553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f any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probability of an event occurring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ccu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380880" y="175248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80880" y="152280"/>
            <a:ext cx="7772400" cy="14724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’ll be using the Poisson Distribution to calculate the probability of an event occurring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1981080" y="3733920"/>
            <a:ext cx="457200" cy="312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538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539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540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8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9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560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561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562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563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6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7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8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569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570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2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3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43"/>
          <p:cNvSpPr/>
          <p:nvPr/>
        </p:nvSpPr>
        <p:spPr>
          <a:xfrm>
            <a:off x="396000" y="3459240"/>
            <a:ext cx="55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quired value has the same area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it for each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44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576" name="Line 45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Line 46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Line 47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Line 48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Line 49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Line 50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Line 51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Line 52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Line 53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Line 54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Line 55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Line 56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Line 57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Line 58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Line 59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Line 60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Line 61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Line 62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Group 63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595" name="Line 64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Line 65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Line 66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Line 67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Line 68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Line 69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70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Line 71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Line 72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73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74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606" name="Group 75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607" name="Line 76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77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Text Box 78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Text Box 79"/>
          <p:cNvSpPr/>
          <p:nvPr/>
        </p:nvSpPr>
        <p:spPr>
          <a:xfrm>
            <a:off x="419040" y="4330800"/>
            <a:ext cx="55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  <a:ea typeface="Arial"/>
              </a:rPr>
              <a:t>i.e. the two shaded areas must be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80"/>
          <p:cNvSpPr/>
          <p:nvPr/>
        </p:nvSpPr>
        <p:spPr>
          <a:xfrm>
            <a:off x="5880240" y="4610160"/>
            <a:ext cx="1663560" cy="635040"/>
          </a:xfrm>
          <a:prstGeom prst="line">
            <a:avLst/>
          </a:prstGeom>
          <a:ln w="38160">
            <a:solidFill>
              <a:srgbClr val="00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616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617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618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6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7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638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639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640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641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2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43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4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5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6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647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648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0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43"/>
          <p:cNvSpPr/>
          <p:nvPr/>
        </p:nvSpPr>
        <p:spPr>
          <a:xfrm>
            <a:off x="398520" y="430056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e – this is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given by th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oint where the curves inters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44"/>
          <p:cNvSpPr/>
          <p:nvPr/>
        </p:nvSpPr>
        <p:spPr>
          <a:xfrm>
            <a:off x="396000" y="3459240"/>
            <a:ext cx="55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required value has the same area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it for each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4" name="Group 45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655" name="Line 46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Line 47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48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49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50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51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52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53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Line 54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55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56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57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58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59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Line 60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Line 61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Line 62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Line 63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3" name="Group 64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674" name="Line 65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66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Line 67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68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Line 69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70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71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Line 72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73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74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75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685" name="Group 76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686" name="Line 77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Line 78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Text Box 79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693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694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695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3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4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715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716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717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718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20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1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2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3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724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725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7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8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Group 43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730" name="Line 44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45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46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47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48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49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50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51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52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53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54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55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Line 56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Line 57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58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59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Line 60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61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8" name="Group 62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749" name="Line 63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64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65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66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67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68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69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ine 70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71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72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9" name="Rectangle 73"/>
          <p:cNvSpPr/>
          <p:nvPr/>
        </p:nvSpPr>
        <p:spPr>
          <a:xfrm>
            <a:off x="396000" y="3457800"/>
            <a:ext cx="61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the two probabilities to be equal, each cur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st convert to the sa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alue as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0" name="Group 74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761" name="Group 75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762" name="Line 76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Line 77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4" name="Text Box 78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5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2449440" y="6397560"/>
            <a:ext cx="154296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Group 7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770" name="Group 8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771" name="Group 9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772" name="Line 10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Line 11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Line 12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Line 13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Line 14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Line 15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Line 16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Line 17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Line 18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Line 19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Text Box 20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Text Box 21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Text Box 22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Text Box 23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Text Box 24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Text Box 25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Text Box 26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Text Box 27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0" name="Text Box 28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1" name="Group 29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792" name="Group 30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793" name="Group 31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794" name="Group 32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795" name="Freeform 33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34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97" name="Line 35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8" name="Rectangle 36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9" name="Text Box 37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0" name="Group 38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801" name="Group 39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802" name="Freeform 40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41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4" name="Text Box 42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Group 43"/>
          <p:cNvGrpSpPr/>
          <p:nvPr/>
        </p:nvGrpSpPr>
        <p:grpSpPr>
          <a:xfrm>
            <a:off x="7652880" y="5221800"/>
            <a:ext cx="1053360" cy="272880"/>
            <a:chOff x="7652880" y="5221800"/>
            <a:chExt cx="1053360" cy="272880"/>
          </a:xfrm>
        </p:grpSpPr>
        <p:sp>
          <p:nvSpPr>
            <p:cNvPr id="1806" name="Line 44"/>
            <p:cNvSpPr/>
            <p:nvPr/>
          </p:nvSpPr>
          <p:spPr>
            <a:xfrm flipH="1">
              <a:off x="7656480" y="5257440"/>
              <a:ext cx="59760" cy="56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45"/>
            <p:cNvSpPr/>
            <p:nvPr/>
          </p:nvSpPr>
          <p:spPr>
            <a:xfrm flipH="1">
              <a:off x="7657560" y="5221800"/>
              <a:ext cx="21600" cy="208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46"/>
            <p:cNvSpPr/>
            <p:nvPr/>
          </p:nvSpPr>
          <p:spPr>
            <a:xfrm flipH="1">
              <a:off x="7766640" y="5375880"/>
              <a:ext cx="122400" cy="1159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47"/>
            <p:cNvSpPr/>
            <p:nvPr/>
          </p:nvSpPr>
          <p:spPr>
            <a:xfrm flipH="1">
              <a:off x="7695720" y="5349600"/>
              <a:ext cx="146880" cy="1396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48"/>
            <p:cNvSpPr/>
            <p:nvPr/>
          </p:nvSpPr>
          <p:spPr>
            <a:xfrm flipH="1">
              <a:off x="7652880" y="5325840"/>
              <a:ext cx="140400" cy="1332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49"/>
            <p:cNvSpPr/>
            <p:nvPr/>
          </p:nvSpPr>
          <p:spPr>
            <a:xfrm flipH="1">
              <a:off x="7659360" y="529380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50"/>
            <p:cNvSpPr/>
            <p:nvPr/>
          </p:nvSpPr>
          <p:spPr>
            <a:xfrm flipH="1">
              <a:off x="8062560" y="5429160"/>
              <a:ext cx="66960" cy="633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51"/>
            <p:cNvSpPr/>
            <p:nvPr/>
          </p:nvSpPr>
          <p:spPr>
            <a:xfrm flipH="1">
              <a:off x="7998120" y="5425200"/>
              <a:ext cx="61200" cy="5832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52"/>
            <p:cNvSpPr/>
            <p:nvPr/>
          </p:nvSpPr>
          <p:spPr>
            <a:xfrm flipH="1">
              <a:off x="7914600" y="5405760"/>
              <a:ext cx="88560" cy="84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53"/>
            <p:cNvSpPr/>
            <p:nvPr/>
          </p:nvSpPr>
          <p:spPr>
            <a:xfrm flipH="1">
              <a:off x="7845120" y="5398560"/>
              <a:ext cx="90720" cy="86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54"/>
            <p:cNvSpPr/>
            <p:nvPr/>
          </p:nvSpPr>
          <p:spPr>
            <a:xfrm flipH="1">
              <a:off x="8358120" y="5442840"/>
              <a:ext cx="50400" cy="48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55"/>
            <p:cNvSpPr/>
            <p:nvPr/>
          </p:nvSpPr>
          <p:spPr>
            <a:xfrm flipH="1">
              <a:off x="8290440" y="5441040"/>
              <a:ext cx="44640" cy="42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56"/>
            <p:cNvSpPr/>
            <p:nvPr/>
          </p:nvSpPr>
          <p:spPr>
            <a:xfrm flipH="1">
              <a:off x="8209080" y="5441760"/>
              <a:ext cx="52920" cy="50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57"/>
            <p:cNvSpPr/>
            <p:nvPr/>
          </p:nvSpPr>
          <p:spPr>
            <a:xfrm flipH="1">
              <a:off x="8136360" y="543996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58"/>
            <p:cNvSpPr/>
            <p:nvPr/>
          </p:nvSpPr>
          <p:spPr>
            <a:xfrm flipH="1">
              <a:off x="8652240" y="5443200"/>
              <a:ext cx="54000" cy="5148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59"/>
            <p:cNvSpPr/>
            <p:nvPr/>
          </p:nvSpPr>
          <p:spPr>
            <a:xfrm flipH="1">
              <a:off x="8582040" y="5449680"/>
              <a:ext cx="43560" cy="4140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Line 60"/>
            <p:cNvSpPr/>
            <p:nvPr/>
          </p:nvSpPr>
          <p:spPr>
            <a:xfrm flipH="1">
              <a:off x="8508600" y="5450760"/>
              <a:ext cx="41400" cy="3924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61"/>
            <p:cNvSpPr/>
            <p:nvPr/>
          </p:nvSpPr>
          <p:spPr>
            <a:xfrm flipH="1">
              <a:off x="8429760" y="5444280"/>
              <a:ext cx="51840" cy="48960"/>
            </a:xfrm>
            <a:prstGeom prst="line">
              <a:avLst/>
            </a:prstGeom>
            <a:ln w="6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Group 62"/>
          <p:cNvGrpSpPr/>
          <p:nvPr/>
        </p:nvGrpSpPr>
        <p:grpSpPr>
          <a:xfrm>
            <a:off x="7651440" y="4864320"/>
            <a:ext cx="429840" cy="631800"/>
            <a:chOff x="7651440" y="4864320"/>
            <a:chExt cx="429840" cy="631800"/>
          </a:xfrm>
        </p:grpSpPr>
        <p:sp>
          <p:nvSpPr>
            <p:cNvPr id="1825" name="Line 63"/>
            <p:cNvSpPr/>
            <p:nvPr/>
          </p:nvSpPr>
          <p:spPr>
            <a:xfrm>
              <a:off x="7661880" y="4938480"/>
              <a:ext cx="52560" cy="504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Line 64"/>
            <p:cNvSpPr/>
            <p:nvPr/>
          </p:nvSpPr>
          <p:spPr>
            <a:xfrm>
              <a:off x="7655040" y="4864320"/>
              <a:ext cx="29880" cy="28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Line 65"/>
            <p:cNvSpPr/>
            <p:nvPr/>
          </p:nvSpPr>
          <p:spPr>
            <a:xfrm>
              <a:off x="7654680" y="5214240"/>
              <a:ext cx="290880" cy="2772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Line 66"/>
            <p:cNvSpPr/>
            <p:nvPr/>
          </p:nvSpPr>
          <p:spPr>
            <a:xfrm>
              <a:off x="7655400" y="5144400"/>
              <a:ext cx="360720" cy="3434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Line 67"/>
            <p:cNvSpPr/>
            <p:nvPr/>
          </p:nvSpPr>
          <p:spPr>
            <a:xfrm>
              <a:off x="7651440" y="5069880"/>
              <a:ext cx="160920" cy="15300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Line 68"/>
            <p:cNvSpPr/>
            <p:nvPr/>
          </p:nvSpPr>
          <p:spPr>
            <a:xfrm>
              <a:off x="7651800" y="5001120"/>
              <a:ext cx="101520" cy="964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69"/>
            <p:cNvSpPr/>
            <p:nvPr/>
          </p:nvSpPr>
          <p:spPr>
            <a:xfrm>
              <a:off x="7653960" y="5428440"/>
              <a:ext cx="71280" cy="6768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70"/>
            <p:cNvSpPr/>
            <p:nvPr/>
          </p:nvSpPr>
          <p:spPr>
            <a:xfrm>
              <a:off x="7659720" y="5360760"/>
              <a:ext cx="126720" cy="1202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71"/>
            <p:cNvSpPr/>
            <p:nvPr/>
          </p:nvSpPr>
          <p:spPr>
            <a:xfrm>
              <a:off x="7662240" y="5294520"/>
              <a:ext cx="205920" cy="1958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72"/>
            <p:cNvSpPr/>
            <p:nvPr/>
          </p:nvSpPr>
          <p:spPr>
            <a:xfrm>
              <a:off x="8053920" y="5455440"/>
              <a:ext cx="27360" cy="26640"/>
            </a:xfrm>
            <a:prstGeom prst="line">
              <a:avLst/>
            </a:prstGeom>
            <a:ln w="64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Group 73"/>
          <p:cNvGrpSpPr/>
          <p:nvPr/>
        </p:nvGrpSpPr>
        <p:grpSpPr>
          <a:xfrm>
            <a:off x="7493040" y="4791240"/>
            <a:ext cx="558720" cy="1510560"/>
            <a:chOff x="7493040" y="4791240"/>
            <a:chExt cx="558720" cy="1510560"/>
          </a:xfrm>
        </p:grpSpPr>
        <p:grpSp>
          <p:nvGrpSpPr>
            <p:cNvPr id="1836" name="Group 74"/>
            <p:cNvGrpSpPr/>
            <p:nvPr/>
          </p:nvGrpSpPr>
          <p:grpSpPr>
            <a:xfrm>
              <a:off x="7658280" y="4791240"/>
              <a:ext cx="0" cy="1101600"/>
              <a:chOff x="7658280" y="4791240"/>
              <a:chExt cx="0" cy="1101600"/>
            </a:xfrm>
          </p:grpSpPr>
          <p:sp>
            <p:nvSpPr>
              <p:cNvPr id="1837" name="Line 75"/>
              <p:cNvSpPr/>
              <p:nvPr/>
            </p:nvSpPr>
            <p:spPr>
              <a:xfrm>
                <a:off x="7658280" y="4791240"/>
                <a:ext cx="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76"/>
              <p:cNvSpPr/>
              <p:nvPr/>
            </p:nvSpPr>
            <p:spPr>
              <a:xfrm>
                <a:off x="7658280" y="55022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9" name="Text Box 77"/>
            <p:cNvSpPr/>
            <p:nvPr/>
          </p:nvSpPr>
          <p:spPr>
            <a:xfrm>
              <a:off x="7493040" y="58420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Rectangle 78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Object 79"/>
          <p:cNvGraphicFramePr/>
          <p:nvPr/>
        </p:nvGraphicFramePr>
        <p:xfrm>
          <a:off x="696960" y="2717640"/>
          <a:ext cx="239400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2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717640"/>
                    <a:ext cx="239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3" name="Object 80"/>
          <p:cNvGraphicFramePr/>
          <p:nvPr/>
        </p:nvGraphicFramePr>
        <p:xfrm>
          <a:off x="736560" y="3701880"/>
          <a:ext cx="2336760" cy="5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4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60" y="3701880"/>
                    <a:ext cx="2336760" cy="5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5" name="Object 81"/>
          <p:cNvGraphicFramePr/>
          <p:nvPr/>
        </p:nvGraphicFramePr>
        <p:xfrm>
          <a:off x="463680" y="4521240"/>
          <a:ext cx="2730240" cy="2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6" name="Object 8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4521240"/>
                    <a:ext cx="273024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7" name="Object 82"/>
          <p:cNvGraphicFramePr/>
          <p:nvPr/>
        </p:nvGraphicFramePr>
        <p:xfrm>
          <a:off x="1276200" y="5035680"/>
          <a:ext cx="1231920" cy="2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8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6200" y="5035680"/>
                    <a:ext cx="12319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9" name="Rectangle 83"/>
          <p:cNvSpPr/>
          <p:nvPr/>
        </p:nvSpPr>
        <p:spPr>
          <a:xfrm>
            <a:off x="393120" y="599616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ach type of vehicle is equally lik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ticketed at 107.3 km/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84"/>
          <p:cNvSpPr/>
          <p:nvPr/>
        </p:nvSpPr>
        <p:spPr>
          <a:xfrm>
            <a:off x="3683160" y="373392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Solve for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Group 85"/>
          <p:cNvGrpSpPr/>
          <p:nvPr/>
        </p:nvGrpSpPr>
        <p:grpSpPr>
          <a:xfrm>
            <a:off x="1467000" y="4965840"/>
            <a:ext cx="1352520" cy="907920"/>
            <a:chOff x="1467000" y="4965840"/>
            <a:chExt cx="1352520" cy="907920"/>
          </a:xfrm>
        </p:grpSpPr>
        <p:graphicFrame>
          <p:nvGraphicFramePr>
            <p:cNvPr id="1852" name="Object 86"/>
            <p:cNvGraphicFramePr/>
            <p:nvPr/>
          </p:nvGraphicFramePr>
          <p:xfrm>
            <a:off x="1467000" y="5581800"/>
            <a:ext cx="1282680" cy="29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53" name="Object 86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67000" y="5581800"/>
                      <a:ext cx="12826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4" name="Text Box 87"/>
            <p:cNvSpPr/>
            <p:nvPr/>
          </p:nvSpPr>
          <p:spPr>
            <a:xfrm>
              <a:off x="2514600" y="4965840"/>
              <a:ext cx="304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Binomi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Rectangle 5"/>
          <p:cNvSpPr/>
          <p:nvPr/>
        </p:nvSpPr>
        <p:spPr>
          <a:xfrm>
            <a:off x="29160" y="591120"/>
            <a:ext cx="884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5 – University Stage 2 Probability exam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a particular game where I can either win or lose (assuming: a)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dependence among the outcomes of the games and;  b)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bability to win in each game);  if the probability to win 3 game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3 is      ,  what is the probability to win 2 out of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1" name="Object 2"/>
              <p:cNvSpPr txBox="1"/>
              <p:nvPr/>
            </p:nvSpPr>
            <p:spPr>
              <a:xfrm>
                <a:off x="914400" y="2057400"/>
                <a:ext cx="343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2" name="TextBox 6"/>
          <p:cNvSpPr/>
          <p:nvPr/>
        </p:nvSpPr>
        <p:spPr>
          <a:xfrm>
            <a:off x="380880" y="350532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lution:  Probability of winning a single game, </a:t>
            </a:r>
            <a:r>
              <a:rPr b="0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s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3" name="Object 3"/>
              <p:cNvSpPr txBox="1"/>
              <p:nvPr/>
            </p:nvSpPr>
            <p:spPr>
              <a:xfrm>
                <a:off x="5810400" y="3287880"/>
                <a:ext cx="6094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4"/>
              <p:cNvSpPr txBox="1"/>
              <p:nvPr/>
            </p:nvSpPr>
            <p:spPr>
              <a:xfrm>
                <a:off x="6553080" y="3429000"/>
                <a:ext cx="381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TextBox 10"/>
          <p:cNvSpPr/>
          <p:nvPr/>
        </p:nvSpPr>
        <p:spPr>
          <a:xfrm>
            <a:off x="380880" y="46483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o prob. of winning 2 out of 4 games is found by the binomial distribution formula where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4, 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2,  and  </a:t>
            </a:r>
            <a:r>
              <a:rPr b="0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1/3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6" name="Object 5"/>
              <p:cNvSpPr txBox="1"/>
              <p:nvPr/>
            </p:nvSpPr>
            <p:spPr>
              <a:xfrm>
                <a:off x="2104920" y="5376960"/>
                <a:ext cx="203832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Object 6"/>
              <p:cNvSpPr txBox="1"/>
              <p:nvPr/>
            </p:nvSpPr>
            <p:spPr>
              <a:xfrm>
                <a:off x="4505400" y="5334120"/>
                <a:ext cx="1714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Object 7"/>
              <p:cNvSpPr txBox="1"/>
              <p:nvPr/>
            </p:nvSpPr>
            <p:spPr>
              <a:xfrm>
                <a:off x="4429080" y="6324480"/>
                <a:ext cx="15811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6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sf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The geometric distribution: 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bability that the 1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success occurs in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nth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itle 1"/>
          <p:cNvSpPr/>
          <p:nvPr/>
        </p:nvSpPr>
        <p:spPr>
          <a:xfrm>
            <a:off x="571680" y="3143160"/>
            <a:ext cx="7772400" cy="14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The negative binomial distribution:  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bability that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kth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success occurs on the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nth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robability of an event occurring i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occu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04920" y="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04920" y="5029200"/>
            <a:ext cx="8839080" cy="16686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Poisson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NZ" sz="2800" spc="-1" strike="noStrike" u="sng" baseline="50000">
                <a:solidFill>
                  <a:srgbClr val="000000"/>
                </a:solidFill>
                <a:uFillTx/>
                <a:latin typeface="Symbol"/>
                <a:ea typeface="Symbol"/>
              </a:rPr>
              <a:t></a:t>
            </a:r>
            <a:r>
              <a:rPr b="1" lang="en-NZ" sz="2800" spc="-1" strike="noStrike" u="sng" baseline="30000">
                <a:solidFill>
                  <a:srgbClr val="000000"/>
                </a:solidFill>
                <a:uFillTx/>
                <a:latin typeface="Symbol"/>
                <a:ea typeface="Symbol"/>
              </a:rPr>
              <a:t>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i="1" lang="en-NZ" sz="28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1905120" y="1600200"/>
            <a:ext cx="457200" cy="3124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3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por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probability of an event occurring i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proportion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ze of the 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terva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4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ultaneou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vents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occu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imultaneousl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at the same time or in exactly the same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04920" y="3505320"/>
            <a:ext cx="8839080" cy="16686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Poisson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NZ" sz="2800" spc="-1" strike="noStrike" u="sng" baseline="50000">
                <a:solidFill>
                  <a:srgbClr val="000000"/>
                </a:solidFill>
                <a:uFillTx/>
                <a:latin typeface="Symbol"/>
                <a:ea typeface="Symbol"/>
              </a:rPr>
              <a:t></a:t>
            </a:r>
            <a:r>
              <a:rPr b="1" lang="en-NZ" sz="2800" spc="-1" strike="noStrike" u="sng" baseline="30000">
                <a:solidFill>
                  <a:srgbClr val="000000"/>
                </a:solidFill>
                <a:uFillTx/>
                <a:latin typeface="Symbol"/>
                <a:ea typeface="Symbol"/>
              </a:rPr>
              <a:t>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1" i="1" lang="en-NZ" sz="28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0" y="5416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g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number of accidents at a particular intersection e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alculate the probability that there ar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ctly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there this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n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21"/>
          <p:cNvSpPr/>
          <p:nvPr/>
        </p:nvSpPr>
        <p:spPr>
          <a:xfrm>
            <a:off x="1752480" y="44956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504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g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number of accidents at a particular intersection e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alculate the probability that there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exactly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there thi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on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311760" y="26708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2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6942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181480" y="56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3"/>
          <p:cNvSpPr/>
          <p:nvPr/>
        </p:nvSpPr>
        <p:spPr>
          <a:xfrm>
            <a:off x="914400" y="304920"/>
            <a:ext cx="507960" cy="350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4"/>
          <p:cNvSpPr/>
          <p:nvPr/>
        </p:nvSpPr>
        <p:spPr>
          <a:xfrm>
            <a:off x="6250320" y="144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6"/>
          <p:cNvSpPr/>
          <p:nvPr/>
        </p:nvSpPr>
        <p:spPr>
          <a:xfrm>
            <a:off x="0" y="53341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0" y="54122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6"/>
              <p:cNvSpPr txBox="1"/>
              <p:nvPr/>
            </p:nvSpPr>
            <p:spPr>
              <a:xfrm>
                <a:off x="6269040" y="1447920"/>
                <a:ext cx="336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Rectangle 7"/>
          <p:cNvSpPr/>
          <p:nvPr/>
        </p:nvSpPr>
        <p:spPr>
          <a:xfrm>
            <a:off x="5715000" y="2134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7"/>
              <p:cNvSpPr txBox="1"/>
              <p:nvPr/>
            </p:nvSpPr>
            <p:spPr>
              <a:xfrm>
                <a:off x="1828800" y="251460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8"/>
              <p:cNvSpPr txBox="1"/>
              <p:nvPr/>
            </p:nvSpPr>
            <p:spPr>
              <a:xfrm>
                <a:off x="1447920" y="3505320"/>
                <a:ext cx="15429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Rectangle 8"/>
          <p:cNvSpPr/>
          <p:nvPr/>
        </p:nvSpPr>
        <p:spPr>
          <a:xfrm>
            <a:off x="1388160" y="44967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1405800" y="144684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1"/>
          <p:cNvSpPr/>
          <p:nvPr/>
        </p:nvSpPr>
        <p:spPr>
          <a:xfrm>
            <a:off x="1752480" y="3048120"/>
            <a:ext cx="2971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6845400" y="49910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11760" y="1222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9422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518148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0" y="3886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7"/>
          <p:cNvSpPr/>
          <p:nvPr/>
        </p:nvSpPr>
        <p:spPr>
          <a:xfrm>
            <a:off x="0" y="3964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6116760" y="0"/>
                <a:ext cx="338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2" name="Rectangle 7"/>
          <p:cNvSpPr/>
          <p:nvPr/>
        </p:nvSpPr>
        <p:spPr>
          <a:xfrm>
            <a:off x="5715000" y="68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828800" y="106668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447920" y="198108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5" name="Rectangle 8"/>
          <p:cNvSpPr/>
          <p:nvPr/>
        </p:nvSpPr>
        <p:spPr>
          <a:xfrm>
            <a:off x="1388160" y="30492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1405800" y="-10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57200" y="4875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457200" y="5487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21"/>
          <p:cNvSpPr/>
          <p:nvPr/>
        </p:nvSpPr>
        <p:spPr>
          <a:xfrm>
            <a:off x="1752480" y="3048120"/>
            <a:ext cx="29718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6845400" y="49910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11760" y="12229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694224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518148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6"/>
          <p:cNvSpPr/>
          <p:nvPr/>
        </p:nvSpPr>
        <p:spPr>
          <a:xfrm>
            <a:off x="0" y="3886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0" y="39643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"/>
              <p:cNvSpPr txBox="1"/>
              <p:nvPr/>
            </p:nvSpPr>
            <p:spPr>
              <a:xfrm>
                <a:off x="6116760" y="0"/>
                <a:ext cx="338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Rectangle 7"/>
          <p:cNvSpPr/>
          <p:nvPr/>
        </p:nvSpPr>
        <p:spPr>
          <a:xfrm>
            <a:off x="5715000" y="68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cidents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828800" y="106668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1447920" y="198108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Rectangle 8"/>
          <p:cNvSpPr/>
          <p:nvPr/>
        </p:nvSpPr>
        <p:spPr>
          <a:xfrm>
            <a:off x="1388160" y="304920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1405800" y="-10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12 months in a year, so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4875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457200" y="5487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5"/>
              <p:cNvSpPr txBox="1"/>
              <p:nvPr/>
            </p:nvSpPr>
            <p:spPr>
              <a:xfrm>
                <a:off x="5334120" y="525780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21"/>
          <p:cNvSpPr/>
          <p:nvPr/>
        </p:nvSpPr>
        <p:spPr>
          <a:xfrm>
            <a:off x="1752480" y="19810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6845400" y="39243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"/>
          <p:cNvSpPr/>
          <p:nvPr/>
        </p:nvSpPr>
        <p:spPr>
          <a:xfrm>
            <a:off x="311760" y="15624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9"/>
          <p:cNvSpPr/>
          <p:nvPr/>
        </p:nvSpPr>
        <p:spPr>
          <a:xfrm>
            <a:off x="6942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518148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0" y="28195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0" y="28976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3"/>
              <p:cNvSpPr txBox="1"/>
              <p:nvPr/>
            </p:nvSpPr>
            <p:spPr>
              <a:xfrm>
                <a:off x="1828800" y="0"/>
                <a:ext cx="9144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1447920" y="914400"/>
                <a:ext cx="15429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Rectangle 8"/>
          <p:cNvSpPr/>
          <p:nvPr/>
        </p:nvSpPr>
        <p:spPr>
          <a:xfrm>
            <a:off x="1388160" y="198216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457200" y="380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457200" y="4420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"/>
              <p:cNvSpPr txBox="1"/>
              <p:nvPr/>
            </p:nvSpPr>
            <p:spPr>
              <a:xfrm>
                <a:off x="5334120" y="4191120"/>
                <a:ext cx="1171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6"/>
              <p:cNvSpPr txBox="1"/>
              <p:nvPr/>
            </p:nvSpPr>
            <p:spPr>
              <a:xfrm>
                <a:off x="5334120" y="5334120"/>
                <a:ext cx="15429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21"/>
          <p:cNvSpPr/>
          <p:nvPr/>
        </p:nvSpPr>
        <p:spPr>
          <a:xfrm>
            <a:off x="1752480" y="380880"/>
            <a:ext cx="29718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6845400" y="23241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6942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1"/>
          <p:cNvSpPr/>
          <p:nvPr/>
        </p:nvSpPr>
        <p:spPr>
          <a:xfrm>
            <a:off x="5181480" y="15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6"/>
          <p:cNvSpPr/>
          <p:nvPr/>
        </p:nvSpPr>
        <p:spPr>
          <a:xfrm>
            <a:off x="0" y="121932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0" y="1297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1387800" y="381960"/>
            <a:ext cx="33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0.2510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4sf)   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457200" y="220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457200" y="2820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5334120" y="2590920"/>
                <a:ext cx="1171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5"/>
              <p:cNvSpPr txBox="1"/>
              <p:nvPr/>
            </p:nvSpPr>
            <p:spPr>
              <a:xfrm>
                <a:off x="5410080" y="3733920"/>
                <a:ext cx="15433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5486400" y="502920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1" name="Straight Connector 17"/>
          <p:cNvSpPr/>
          <p:nvPr/>
        </p:nvSpPr>
        <p:spPr>
          <a:xfrm flipV="1">
            <a:off x="6324480" y="380952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23"/>
          <p:cNvSpPr/>
          <p:nvPr/>
        </p:nvSpPr>
        <p:spPr>
          <a:xfrm flipV="1">
            <a:off x="6172200" y="441936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Object 7"/>
              <p:cNvSpPr txBox="1"/>
              <p:nvPr/>
            </p:nvSpPr>
            <p:spPr>
              <a:xfrm>
                <a:off x="5486400" y="4800600"/>
                <a:ext cx="137160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Rectangle 8"/>
          <p:cNvSpPr/>
          <p:nvPr/>
        </p:nvSpPr>
        <p:spPr>
          <a:xfrm>
            <a:off x="5410080" y="5792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7"/>
          <p:cNvSpPr/>
          <p:nvPr/>
        </p:nvSpPr>
        <p:spPr>
          <a:xfrm>
            <a:off x="5486400" y="57913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6845400" y="13334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6942240" y="-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5181480" y="5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0" y="30672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Calculate the probability that there 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t least o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 this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8"/>
          <p:cNvSpPr/>
          <p:nvPr/>
        </p:nvSpPr>
        <p:spPr>
          <a:xfrm>
            <a:off x="457200" y="1217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457200" y="1829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2"/>
              <p:cNvSpPr txBox="1"/>
              <p:nvPr/>
            </p:nvSpPr>
            <p:spPr>
              <a:xfrm>
                <a:off x="5334120" y="160020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5410080" y="274320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4"/>
              <p:cNvSpPr txBox="1"/>
              <p:nvPr/>
            </p:nvSpPr>
            <p:spPr>
              <a:xfrm>
                <a:off x="5486400" y="380988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6" name="Straight Connector 17"/>
          <p:cNvSpPr/>
          <p:nvPr/>
        </p:nvSpPr>
        <p:spPr>
          <a:xfrm flipV="1">
            <a:off x="6324480" y="28195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3"/>
          <p:cNvSpPr/>
          <p:nvPr/>
        </p:nvSpPr>
        <p:spPr>
          <a:xfrm flipV="1">
            <a:off x="6095880" y="335232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5486400" y="4344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3581280" y="49539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4952880" y="5335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4952880" y="5792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7"/>
          <p:cNvSpPr/>
          <p:nvPr/>
        </p:nvSpPr>
        <p:spPr>
          <a:xfrm>
            <a:off x="5486400" y="457344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6845400" y="1159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9"/>
          <p:cNvSpPr/>
          <p:nvPr/>
        </p:nvSpPr>
        <p:spPr>
          <a:xfrm>
            <a:off x="6942240" y="-144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1"/>
          <p:cNvSpPr/>
          <p:nvPr/>
        </p:nvSpPr>
        <p:spPr>
          <a:xfrm>
            <a:off x="5181480" y="-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457200" y="1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P(X=1) + P(X=2) + P(X=3) + ….  Infi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457200" y="61236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…   Take the complement: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5334120" y="382680"/>
                <a:ext cx="117144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5410080" y="152568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5486400" y="259236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1" name="Straight Connector 17"/>
          <p:cNvSpPr/>
          <p:nvPr/>
        </p:nvSpPr>
        <p:spPr>
          <a:xfrm flipV="1">
            <a:off x="6324480" y="16012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3"/>
          <p:cNvSpPr/>
          <p:nvPr/>
        </p:nvSpPr>
        <p:spPr>
          <a:xfrm flipV="1">
            <a:off x="6095880" y="213480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486400" y="31269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581280" y="37364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4952880" y="4117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52880" y="4574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563868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80880" y="57020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 5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7"/>
          <p:cNvSpPr/>
          <p:nvPr/>
        </p:nvSpPr>
        <p:spPr>
          <a:xfrm>
            <a:off x="5486400" y="32767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6942240" y="-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5181480" y="-19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5410080" y="228600"/>
                <a:ext cx="15433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4"/>
              <p:cNvSpPr txBox="1"/>
              <p:nvPr/>
            </p:nvSpPr>
            <p:spPr>
              <a:xfrm>
                <a:off x="5486400" y="1295280"/>
                <a:ext cx="9144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4" name="Straight Connector 17"/>
          <p:cNvSpPr/>
          <p:nvPr/>
        </p:nvSpPr>
        <p:spPr>
          <a:xfrm flipV="1">
            <a:off x="6324480" y="304920"/>
            <a:ext cx="5335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3"/>
          <p:cNvSpPr/>
          <p:nvPr/>
        </p:nvSpPr>
        <p:spPr>
          <a:xfrm flipV="1">
            <a:off x="6095880" y="83772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5486400" y="182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3581280" y="2439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952880" y="2820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4952880" y="327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"/>
          <p:cNvSpPr/>
          <p:nvPr/>
        </p:nvSpPr>
        <p:spPr>
          <a:xfrm>
            <a:off x="0" y="434196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80880" y="44042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180360" y="57754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4114800" y="565452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1988280" y="5789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609480" y="533412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3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7"/>
          <p:cNvSpPr/>
          <p:nvPr/>
        </p:nvSpPr>
        <p:spPr>
          <a:xfrm>
            <a:off x="5486400" y="1447920"/>
            <a:ext cx="34290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6942240" y="-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5181480" y="-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581280" y="6105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)  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X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4952880" y="991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4952880" y="1449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0" y="251316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380880" y="2575440"/>
            <a:ext cx="85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(c)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probability that there ar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ore than 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ccidents in a particula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180360" y="3946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"/>
          <p:cNvSpPr/>
          <p:nvPr/>
        </p:nvSpPr>
        <p:spPr>
          <a:xfrm>
            <a:off x="4114800" y="382572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1988280" y="3961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1"/>
          <p:cNvSpPr/>
          <p:nvPr/>
        </p:nvSpPr>
        <p:spPr>
          <a:xfrm>
            <a:off x="609480" y="350532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2"/>
          <p:cNvSpPr/>
          <p:nvPr/>
        </p:nvSpPr>
        <p:spPr>
          <a:xfrm>
            <a:off x="1621440" y="472536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248520" y="480276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1621440" y="541116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6"/>
          <p:cNvSpPr/>
          <p:nvPr/>
        </p:nvSpPr>
        <p:spPr>
          <a:xfrm>
            <a:off x="2895480" y="4038480"/>
            <a:ext cx="106704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200232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1926360" y="464940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1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591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598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6"/>
          <p:cNvSpPr/>
          <p:nvPr/>
        </p:nvSpPr>
        <p:spPr>
          <a:xfrm>
            <a:off x="28954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2"/>
          <p:cNvSpPr/>
          <p:nvPr/>
        </p:nvSpPr>
        <p:spPr>
          <a:xfrm>
            <a:off x="1926360" y="464940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_____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9"/>
          <p:cNvSpPr/>
          <p:nvPr/>
        </p:nvSpPr>
        <p:spPr>
          <a:xfrm>
            <a:off x="28954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6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59" name="Oval 6"/>
          <p:cNvSpPr/>
          <p:nvPr/>
        </p:nvSpPr>
        <p:spPr>
          <a:xfrm>
            <a:off x="1600200" y="3733920"/>
            <a:ext cx="380880" cy="3045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0" y="305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648320" y="3581280"/>
            <a:ext cx="533160" cy="4572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4648320" y="37339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523880" y="3809880"/>
            <a:ext cx="36576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66" name="Oval 6"/>
          <p:cNvSpPr/>
          <p:nvPr/>
        </p:nvSpPr>
        <p:spPr>
          <a:xfrm>
            <a:off x="1600200" y="396252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289080"/>
            <a:ext cx="9144000" cy="30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-3240" y="319320"/>
            <a:ext cx="910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inomial Distribution revision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CEA 200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 and Tane are surfers. Tom successfully rides a wave o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 out of every 10 attempts, and Tane 6 out of every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ability that Tom &amp; Ta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ri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nex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assumptions must be made to use the Binomial Distn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673" name="Oval 6"/>
          <p:cNvSpPr/>
          <p:nvPr/>
        </p:nvSpPr>
        <p:spPr>
          <a:xfrm>
            <a:off x="1600200" y="396252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6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1926360" y="464940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9"/>
          <p:cNvSpPr/>
          <p:nvPr/>
        </p:nvSpPr>
        <p:spPr>
          <a:xfrm>
            <a:off x="4191120" y="3962520"/>
            <a:ext cx="990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0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34" name="Oval 6"/>
          <p:cNvSpPr/>
          <p:nvPr/>
        </p:nvSpPr>
        <p:spPr>
          <a:xfrm>
            <a:off x="1600200" y="38862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0" y="23364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7"/>
          <p:cNvSpPr/>
          <p:nvPr/>
        </p:nvSpPr>
        <p:spPr>
          <a:xfrm>
            <a:off x="4648320" y="3581280"/>
            <a:ext cx="533160" cy="6098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4"/>
          <p:cNvSpPr/>
          <p:nvPr/>
        </p:nvSpPr>
        <p:spPr>
          <a:xfrm>
            <a:off x="4648320" y="3962520"/>
            <a:ext cx="6094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1523880" y="3809880"/>
            <a:ext cx="3657600" cy="381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41" name="Oval 6"/>
          <p:cNvSpPr/>
          <p:nvPr/>
        </p:nvSpPr>
        <p:spPr>
          <a:xfrm>
            <a:off x="1600200" y="41148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2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"/>
          <p:cNvSpPr/>
          <p:nvPr/>
        </p:nvSpPr>
        <p:spPr>
          <a:xfrm>
            <a:off x="4648320" y="411480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48" name="Oval 6"/>
          <p:cNvSpPr/>
          <p:nvPr/>
        </p:nvSpPr>
        <p:spPr>
          <a:xfrm>
            <a:off x="1600200" y="4114800"/>
            <a:ext cx="380880" cy="3049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2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648320" y="3505320"/>
            <a:ext cx="533160" cy="3045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val 4"/>
          <p:cNvSpPr/>
          <p:nvPr/>
        </p:nvSpPr>
        <p:spPr>
          <a:xfrm>
            <a:off x="4648320" y="4114800"/>
            <a:ext cx="6094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1926720" y="4649400"/>
            <a:ext cx="44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______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6"/>
          <p:cNvSpPr/>
          <p:nvPr/>
        </p:nvSpPr>
        <p:spPr>
          <a:xfrm>
            <a:off x="5410080" y="4038480"/>
            <a:ext cx="9907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1925640" y="46494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51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+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 P(</a:t>
            </a:r>
            <a:r>
              <a:rPr b="0" i="1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X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= 2) = </a:t>
            </a: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4"/>
          <p:cNvSpPr/>
          <p:nvPr/>
        </p:nvSpPr>
        <p:spPr>
          <a:xfrm>
            <a:off x="4648320" y="37339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:  Intro to the Poisson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 about what the Poisson Distribution is and its parameter,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 the 4 requirements for the use of the Poisson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lculate probabilities using the Poisson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arm-up: 2009 NCEA q. on the Binomial Dist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: Notes &amp; examples using the formula &amp; tables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(most of less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W: Sigma - Old edition: Ex. 6.1 or New: Ex. 16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350120" cy="79678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9"/>
          <p:cNvSpPr/>
          <p:nvPr/>
        </p:nvSpPr>
        <p:spPr>
          <a:xfrm>
            <a:off x="0" y="235080"/>
            <a:ext cx="266688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i="1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.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0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2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i="1" lang="pt-PT" sz="20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 1) =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3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+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 P(</a:t>
            </a:r>
            <a:r>
              <a:rPr b="0" i="1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X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Comic Sans MS"/>
              </a:rPr>
              <a:t>= 2) = </a:t>
            </a:r>
            <a:r>
              <a:rPr b="1" lang="pt-PT" sz="2000" spc="-1" strike="noStrike" u="sng">
                <a:solidFill>
                  <a:srgbClr val="0000ff"/>
                </a:solidFill>
                <a:uFillTx/>
                <a:latin typeface="Comic Sans MS"/>
              </a:rPr>
              <a:t>0.25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&lt;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) = 0.8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648320" y="3581280"/>
            <a:ext cx="533160" cy="83844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4"/>
          <p:cNvSpPr/>
          <p:nvPr/>
        </p:nvSpPr>
        <p:spPr>
          <a:xfrm>
            <a:off x="4648320" y="3733920"/>
            <a:ext cx="609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1523880" y="3809880"/>
            <a:ext cx="3657600" cy="6098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4"/>
          <p:cNvSpPr/>
          <p:nvPr/>
        </p:nvSpPr>
        <p:spPr>
          <a:xfrm>
            <a:off x="2209680" y="5791320"/>
            <a:ext cx="1219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6367320" y="419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409320" y="310860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7790040" y="497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1"/>
          <p:cNvSpPr/>
          <p:nvPr/>
        </p:nvSpPr>
        <p:spPr>
          <a:xfrm>
            <a:off x="4343400" y="2987640"/>
            <a:ext cx="480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ere are an infinite number of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cases so instead consider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2216880" y="3123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&lt;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"/>
          <p:cNvSpPr/>
          <p:nvPr/>
        </p:nvSpPr>
        <p:spPr>
          <a:xfrm>
            <a:off x="1488960" y="414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8"/>
          <p:cNvSpPr/>
          <p:nvPr/>
        </p:nvSpPr>
        <p:spPr>
          <a:xfrm>
            <a:off x="1905120" y="58662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19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4572000" y="5110200"/>
            <a:ext cx="4419720" cy="22273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Sig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 baseline="30000">
                <a:solidFill>
                  <a:srgbClr val="000000"/>
                </a:solidFill>
                <a:latin typeface="Times New Roman"/>
              </a:rPr>
              <a:t>Old edition: Ex. 6.1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000" spc="-1" strike="noStrike" baseline="30000">
                <a:solidFill>
                  <a:srgbClr val="000000"/>
                </a:solidFill>
                <a:latin typeface="Times New Roman"/>
              </a:rPr>
              <a:t>New edition: Ex. 16.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1"/>
          <p:cNvSpPr/>
          <p:nvPr/>
        </p:nvSpPr>
        <p:spPr>
          <a:xfrm>
            <a:off x="838080" y="2666880"/>
            <a:ext cx="13716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6477120" y="4041000"/>
            <a:ext cx="2666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Look up Poiss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2"/>
          <p:cNvSpPr/>
          <p:nvPr/>
        </p:nvSpPr>
        <p:spPr>
          <a:xfrm>
            <a:off x="1925640" y="4649400"/>
            <a:ext cx="44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3347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51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0" y="1600200"/>
            <a:ext cx="9144000" cy="91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6"/>
          <p:cNvSpPr/>
          <p:nvPr/>
        </p:nvSpPr>
        <p:spPr>
          <a:xfrm>
            <a:off x="380880" y="1602360"/>
            <a:ext cx="85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ccidents in a particula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2"/>
          <p:cNvSpPr/>
          <p:nvPr/>
        </p:nvSpPr>
        <p:spPr>
          <a:xfrm>
            <a:off x="1926360" y="3963600"/>
            <a:ext cx="46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[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0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=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1) + P(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=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1914120" y="51825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1 –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80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2"/>
          <p:cNvSpPr/>
          <p:nvPr/>
        </p:nvSpPr>
        <p:spPr>
          <a:xfrm>
            <a:off x="5029200" y="60948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4495680" y="1533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1 –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0.223130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4495680" y="6105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0.7769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4sf)  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2:  Poisson probabilities using a Graphics calcul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ractice calculating probabilities of combined events using the Poisson Distribution, using both tables and G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W q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roblem on board – how to use your G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old –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d): p84 – Ex. 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or in new version: p340 – Ex. 16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0.018315 + 0.073262 + 0.14652 + 0.1953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800"/>
            </a:b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.g. Calculate  P (X&gt;3) for 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ff"/>
                </a:solidFill>
                <a:latin typeface="Arial"/>
              </a:rPr>
              <a:t>USING TABLES.  Do not copy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&gt;3)   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oisson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als with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occurrence in a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ver a give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continuous interval (time/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yea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excluding after-shock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quare 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week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Christ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</a:t>
            </a:r>
            <a:br>
              <a:rPr sz="2000"/>
            </a:b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ables vs Graphics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E.g. Calculate  P (X&gt;3) for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4.   Using tables (do not cop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&gt;3)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P(X=0) + P(X=1) + P(X=2) + P(X=3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NZ" sz="1600" spc="-1" strike="noStrike">
                <a:solidFill>
                  <a:srgbClr val="ff0000"/>
                </a:solidFill>
                <a:latin typeface="Arial"/>
              </a:rPr>
              <a:t>0.018315 + 0.073262 + 0.14652 + 0.19536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1 –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4334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0.5665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0" y="2971800"/>
            <a:ext cx="914400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P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Poisson probabilities: Tables vs Graphics Calc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4419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Setting out of working when using your Graphics Calculat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Calculate  P (</a:t>
            </a:r>
            <a:r>
              <a:rPr b="0" i="1" lang="en-N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Arial"/>
                <a:ea typeface="Arial"/>
              </a:rPr>
              <a:t>&gt;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3) for </a:t>
            </a:r>
            <a:r>
              <a:rPr b="1" lang="en-NZ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P(</a:t>
            </a:r>
            <a:r>
              <a:rPr b="0" i="1" lang="en-N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Arial Black"/>
              </a:rPr>
              <a:t>&gt;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3)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  1 –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P(</a:t>
            </a:r>
            <a:r>
              <a:rPr b="0" i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 Black"/>
              </a:rPr>
              <a:t>&lt;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=  1 –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433457  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(G.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        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=  0.5665(4s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0" y="457200"/>
            <a:ext cx="9144000" cy="396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  (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cop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DIST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SN (F6, F1)      (same 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mulative probabilities – more than 1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(as bef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P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0" y="0"/>
            <a:ext cx="9144000" cy="722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6.02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1905120" y="30700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397080" y="-56880"/>
            <a:ext cx="859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mean number of volcanic eruptions on White Island is 1.2 p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ear. Calculate the probability that there are more than 2 in on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17960" y="1486440"/>
            <a:ext cx="15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1793160" y="14799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–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2796120" y="152280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s this is infinite, rewrite &gt; in terms of ≤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1519200" y="2294280"/>
            <a:ext cx="41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– 0.879 48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.C.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1519200" y="3108960"/>
            <a:ext cx="25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120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380520" y="7848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3"/>
          <p:cNvSpPr/>
          <p:nvPr/>
        </p:nvSpPr>
        <p:spPr>
          <a:xfrm>
            <a:off x="930240" y="784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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838080" y="4495680"/>
            <a:ext cx="7543800" cy="132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84: Ex. 6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0 – Ex. 16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3:  Inverse Poisson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variance &amp; standard deviation of a Poisson probability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olve inverse Poisson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ARTER: Look at a graph of the Poisson Distribution (see Sigma workbook C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Variance &amp; SD of Poisson – notes &amp; e.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igma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d: p89 – Ex. 6.3;  New Sigma: p344 – Ex. 16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2.  Inverse Poisson problems – notes &amp; e.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igma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d: p90 – Ex. 6.4;  New Sigma: p347 – Ex. 16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3" descr=""/>
          <p:cNvPicPr/>
          <p:nvPr/>
        </p:nvPicPr>
        <p:blipFill>
          <a:blip r:embed="rId1"/>
          <a:stretch/>
        </p:blipFill>
        <p:spPr>
          <a:xfrm>
            <a:off x="-15840" y="380880"/>
            <a:ext cx="92851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2514600"/>
            <a:ext cx="9144000" cy="774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3086280" y="4503600"/>
            <a:ext cx="88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6845400" y="8724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6"/>
          <p:cNvSpPr/>
          <p:nvPr/>
        </p:nvSpPr>
        <p:spPr>
          <a:xfrm>
            <a:off x="152280" y="2444760"/>
            <a:ext cx="62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isson distribution has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4.6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What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397800" y="335664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5722920" y="638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Object 9"/>
          <p:cNvGraphicFramePr/>
          <p:nvPr/>
        </p:nvGraphicFramePr>
        <p:xfrm>
          <a:off x="3102120" y="3384720"/>
          <a:ext cx="4554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2120" y="3384720"/>
                    <a:ext cx="455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10"/>
          <p:cNvGraphicFramePr/>
          <p:nvPr/>
        </p:nvGraphicFramePr>
        <p:xfrm>
          <a:off x="2852640" y="3952800"/>
          <a:ext cx="9525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952800"/>
                    <a:ext cx="9525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11"/>
          <p:cNvGraphicFramePr/>
          <p:nvPr/>
        </p:nvGraphicFramePr>
        <p:xfrm>
          <a:off x="2852640" y="4618080"/>
          <a:ext cx="1015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2640" y="4618080"/>
                    <a:ext cx="1015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1" name="Text Box 19"/>
          <p:cNvSpPr/>
          <p:nvPr/>
        </p:nvSpPr>
        <p:spPr>
          <a:xfrm>
            <a:off x="0" y="5334120"/>
            <a:ext cx="9144000" cy="13230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89: Ex. 6.3 – Q3 &amp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5 – Ex. 16.03 – Q4 &amp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0"/>
            <a:ext cx="91440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Variance &amp; Standard Deviation of a Poisson Dis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= mean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also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=varianc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  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15"/>
          <p:cNvGraphicFramePr/>
          <p:nvPr/>
        </p:nvGraphicFramePr>
        <p:xfrm>
          <a:off x="5257800" y="1371600"/>
          <a:ext cx="6382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1371600"/>
                    <a:ext cx="638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5"/>
          <p:cNvSpPr/>
          <p:nvPr/>
        </p:nvSpPr>
        <p:spPr>
          <a:xfrm>
            <a:off x="6845400" y="4152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8"/>
          <p:cNvSpPr/>
          <p:nvPr/>
        </p:nvSpPr>
        <p:spPr>
          <a:xfrm>
            <a:off x="5722920" y="18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2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ow to solve Inverse Poisso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0" y="203184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4"/>
          <p:cNvSpPr/>
          <p:nvPr/>
        </p:nvSpPr>
        <p:spPr>
          <a:xfrm>
            <a:off x="400320" y="198000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Object 15"/>
          <p:cNvGraphicFramePr/>
          <p:nvPr/>
        </p:nvGraphicFramePr>
        <p:xfrm>
          <a:off x="644400" y="2809800"/>
          <a:ext cx="20829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1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809800"/>
                    <a:ext cx="2082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Rectangle 16"/>
          <p:cNvSpPr/>
          <p:nvPr/>
        </p:nvSpPr>
        <p:spPr>
          <a:xfrm>
            <a:off x="3352680" y="274176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2"/>
          <p:cNvSpPr/>
          <p:nvPr/>
        </p:nvSpPr>
        <p:spPr>
          <a:xfrm>
            <a:off x="0" y="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"/>
          <p:cNvSpPr/>
          <p:nvPr/>
        </p:nvSpPr>
        <p:spPr>
          <a:xfrm>
            <a:off x="1752480" y="4114800"/>
            <a:ext cx="1752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400320" y="-5184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8782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8"/>
          <p:cNvGraphicFramePr/>
          <p:nvPr/>
        </p:nvGraphicFramePr>
        <p:xfrm>
          <a:off x="568440" y="828720"/>
          <a:ext cx="2082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828720"/>
                    <a:ext cx="2082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Rectangle 9"/>
          <p:cNvSpPr/>
          <p:nvPr/>
        </p:nvSpPr>
        <p:spPr>
          <a:xfrm>
            <a:off x="3276720" y="760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1" name="Object 10"/>
          <p:cNvGraphicFramePr/>
          <p:nvPr/>
        </p:nvGraphicFramePr>
        <p:xfrm>
          <a:off x="514440" y="1892160"/>
          <a:ext cx="2125440" cy="3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1892160"/>
                    <a:ext cx="21254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3" name="Rectangle 11"/>
          <p:cNvSpPr/>
          <p:nvPr/>
        </p:nvSpPr>
        <p:spPr>
          <a:xfrm>
            <a:off x="3236760" y="2513520"/>
            <a:ext cx="56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2"/>
          <p:cNvSpPr/>
          <p:nvPr/>
        </p:nvSpPr>
        <p:spPr>
          <a:xfrm>
            <a:off x="250668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974320" y="17514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Simplify, us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0!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both equa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Object 15"/>
          <p:cNvGraphicFramePr/>
          <p:nvPr/>
        </p:nvGraphicFramePr>
        <p:xfrm>
          <a:off x="420840" y="2622600"/>
          <a:ext cx="2717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840" y="2622600"/>
                    <a:ext cx="2717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Rectangle 19"/>
          <p:cNvSpPr/>
          <p:nvPr/>
        </p:nvSpPr>
        <p:spPr>
          <a:xfrm>
            <a:off x="0" y="510552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0"/>
          <p:cNvSpPr/>
          <p:nvPr/>
        </p:nvSpPr>
        <p:spPr>
          <a:xfrm>
            <a:off x="367560" y="5104080"/>
            <a:ext cx="85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ast one fault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3"/>
          <p:cNvSpPr/>
          <p:nvPr/>
        </p:nvSpPr>
        <p:spPr>
          <a:xfrm>
            <a:off x="3505680" y="332640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4"/>
          <p:cNvSpPr/>
          <p:nvPr/>
        </p:nvSpPr>
        <p:spPr>
          <a:xfrm flipV="1">
            <a:off x="5921280" y="365724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25"/>
          <p:cNvSpPr/>
          <p:nvPr/>
        </p:nvSpPr>
        <p:spPr>
          <a:xfrm flipV="1">
            <a:off x="6149880" y="3504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6"/>
          <p:cNvSpPr/>
          <p:nvPr/>
        </p:nvSpPr>
        <p:spPr>
          <a:xfrm>
            <a:off x="990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7"/>
          <p:cNvSpPr/>
          <p:nvPr/>
        </p:nvSpPr>
        <p:spPr>
          <a:xfrm>
            <a:off x="1066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oisson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als with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occurrence in a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ver a given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continuous interval (time/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yea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Christchu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0" y="0"/>
            <a:ext cx="9144000" cy="447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1752480" y="4114800"/>
            <a:ext cx="1752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400320" y="-51840"/>
            <a:ext cx="82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For a Poisson distribution,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0123. Calculate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287820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0" name="Object 8"/>
          <p:cNvGraphicFramePr/>
          <p:nvPr/>
        </p:nvGraphicFramePr>
        <p:xfrm>
          <a:off x="568440" y="828720"/>
          <a:ext cx="20826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828720"/>
                    <a:ext cx="20826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Rectangle 9"/>
          <p:cNvSpPr/>
          <p:nvPr/>
        </p:nvSpPr>
        <p:spPr>
          <a:xfrm>
            <a:off x="3276720" y="7606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Object 10"/>
          <p:cNvGraphicFramePr/>
          <p:nvPr/>
        </p:nvGraphicFramePr>
        <p:xfrm>
          <a:off x="514440" y="1892160"/>
          <a:ext cx="2125440" cy="3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440" y="1892160"/>
                    <a:ext cx="21254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Rectangle 11"/>
          <p:cNvSpPr/>
          <p:nvPr/>
        </p:nvSpPr>
        <p:spPr>
          <a:xfrm>
            <a:off x="3236760" y="2513520"/>
            <a:ext cx="56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"/>
          <p:cNvSpPr/>
          <p:nvPr/>
        </p:nvSpPr>
        <p:spPr>
          <a:xfrm>
            <a:off x="250668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4"/>
          <p:cNvSpPr/>
          <p:nvPr/>
        </p:nvSpPr>
        <p:spPr>
          <a:xfrm>
            <a:off x="2974320" y="1751400"/>
            <a:ext cx="55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Simplify, using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0!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both equal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8" name="Object 15"/>
          <p:cNvGraphicFramePr/>
          <p:nvPr/>
        </p:nvGraphicFramePr>
        <p:xfrm>
          <a:off x="420840" y="2622600"/>
          <a:ext cx="27176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9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840" y="2622600"/>
                    <a:ext cx="2717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0" name="Rectangle 19"/>
          <p:cNvSpPr/>
          <p:nvPr/>
        </p:nvSpPr>
        <p:spPr>
          <a:xfrm>
            <a:off x="0" y="510552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0"/>
          <p:cNvSpPr/>
          <p:nvPr/>
        </p:nvSpPr>
        <p:spPr>
          <a:xfrm>
            <a:off x="398880" y="510372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1"/>
          <p:cNvSpPr/>
          <p:nvPr/>
        </p:nvSpPr>
        <p:spPr>
          <a:xfrm>
            <a:off x="3657600" y="609588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First choose the random variable,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23"/>
          <p:cNvSpPr/>
          <p:nvPr/>
        </p:nvSpPr>
        <p:spPr>
          <a:xfrm>
            <a:off x="3505680" y="332640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4"/>
          <p:cNvSpPr/>
          <p:nvPr/>
        </p:nvSpPr>
        <p:spPr>
          <a:xfrm flipV="1">
            <a:off x="5921280" y="365724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5"/>
          <p:cNvSpPr/>
          <p:nvPr/>
        </p:nvSpPr>
        <p:spPr>
          <a:xfrm flipV="1">
            <a:off x="6149880" y="3504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6"/>
          <p:cNvSpPr/>
          <p:nvPr/>
        </p:nvSpPr>
        <p:spPr>
          <a:xfrm>
            <a:off x="9907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7"/>
          <p:cNvSpPr/>
          <p:nvPr/>
        </p:nvSpPr>
        <p:spPr>
          <a:xfrm>
            <a:off x="10666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28"/>
          <p:cNvSpPr/>
          <p:nvPr/>
        </p:nvSpPr>
        <p:spPr>
          <a:xfrm>
            <a:off x="2057400" y="83808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2"/>
          <p:cNvSpPr/>
          <p:nvPr/>
        </p:nvSpPr>
        <p:spPr>
          <a:xfrm>
            <a:off x="0" y="146988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6"/>
          <p:cNvSpPr/>
          <p:nvPr/>
        </p:nvSpPr>
        <p:spPr>
          <a:xfrm>
            <a:off x="398880" y="146844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7"/>
          <p:cNvSpPr/>
          <p:nvPr/>
        </p:nvSpPr>
        <p:spPr>
          <a:xfrm>
            <a:off x="407520" y="235152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be ‘the number of faults per sampl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8"/>
          <p:cNvSpPr/>
          <p:nvPr/>
        </p:nvSpPr>
        <p:spPr>
          <a:xfrm>
            <a:off x="388440" y="2794680"/>
            <a:ext cx="37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Poisson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9"/>
          <p:cNvSpPr/>
          <p:nvPr/>
        </p:nvSpPr>
        <p:spPr>
          <a:xfrm>
            <a:off x="395640" y="352944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iven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) =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0"/>
          <p:cNvSpPr/>
          <p:nvPr/>
        </p:nvSpPr>
        <p:spPr>
          <a:xfrm>
            <a:off x="424440" y="4004280"/>
            <a:ext cx="19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1"/>
          <p:cNvSpPr/>
          <p:nvPr/>
        </p:nvSpPr>
        <p:spPr>
          <a:xfrm>
            <a:off x="3964680" y="559332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Arial"/>
              </a:rPr>
              <a:t>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and 0! both equal 1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Object 12"/>
          <p:cNvGraphicFramePr/>
          <p:nvPr/>
        </p:nvGraphicFramePr>
        <p:xfrm>
          <a:off x="485640" y="4795920"/>
          <a:ext cx="16257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795920"/>
                    <a:ext cx="16257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9" name="Rectangle 13"/>
          <p:cNvSpPr/>
          <p:nvPr/>
        </p:nvSpPr>
        <p:spPr>
          <a:xfrm>
            <a:off x="2065320" y="582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Object 14"/>
          <p:cNvGraphicFramePr/>
          <p:nvPr/>
        </p:nvGraphicFramePr>
        <p:xfrm>
          <a:off x="444600" y="5748480"/>
          <a:ext cx="169524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1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5748480"/>
                    <a:ext cx="1695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Rectangle 15"/>
          <p:cNvSpPr/>
          <p:nvPr/>
        </p:nvSpPr>
        <p:spPr>
          <a:xfrm>
            <a:off x="3886200" y="2352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irst choose the random variable,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6"/>
          <p:cNvSpPr/>
          <p:nvPr/>
        </p:nvSpPr>
        <p:spPr>
          <a:xfrm>
            <a:off x="4015440" y="448956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Write out the Poisson formul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for the information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7"/>
          <p:cNvSpPr/>
          <p:nvPr/>
        </p:nvSpPr>
        <p:spPr>
          <a:xfrm>
            <a:off x="3875400" y="6247440"/>
            <a:ext cx="49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9"/>
          <p:cNvSpPr/>
          <p:nvPr/>
        </p:nvSpPr>
        <p:spPr>
          <a:xfrm>
            <a:off x="3120480" y="33213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s ≥ is infinite (no upper limit), we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complement, knowing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X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&g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) = 1- P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30"/>
          <p:cNvSpPr/>
          <p:nvPr/>
        </p:nvSpPr>
        <p:spPr>
          <a:xfrm>
            <a:off x="1295280" y="152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0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1371600" y="914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4.39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2"/>
          <p:cNvSpPr/>
          <p:nvPr/>
        </p:nvSpPr>
        <p:spPr>
          <a:xfrm>
            <a:off x="3810600" y="20232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33"/>
          <p:cNvSpPr/>
          <p:nvPr/>
        </p:nvSpPr>
        <p:spPr>
          <a:xfrm flipV="1">
            <a:off x="6248520" y="533160"/>
            <a:ext cx="7596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34"/>
          <p:cNvSpPr/>
          <p:nvPr/>
        </p:nvSpPr>
        <p:spPr>
          <a:xfrm flipV="1">
            <a:off x="6477120" y="380880"/>
            <a:ext cx="7596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0" y="0"/>
            <a:ext cx="9144000" cy="7477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1600200" y="6095880"/>
            <a:ext cx="18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398880" y="-1800"/>
            <a:ext cx="855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n samples of material taken from a textile factory, 40% ha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east one fa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Estimate the mean number of faults per samp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7"/>
          <p:cNvSpPr/>
          <p:nvPr/>
        </p:nvSpPr>
        <p:spPr>
          <a:xfrm>
            <a:off x="407520" y="88164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be ‘the number of faults per sampl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"/>
          <p:cNvSpPr/>
          <p:nvPr/>
        </p:nvSpPr>
        <p:spPr>
          <a:xfrm>
            <a:off x="388440" y="1324440"/>
            <a:ext cx="37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Poisson distrib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395640" y="205956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iven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≥ 1) =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0"/>
          <p:cNvSpPr/>
          <p:nvPr/>
        </p:nvSpPr>
        <p:spPr>
          <a:xfrm>
            <a:off x="424440" y="2534040"/>
            <a:ext cx="19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) = 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0" name="Object 12"/>
          <p:cNvGraphicFramePr/>
          <p:nvPr/>
        </p:nvGraphicFramePr>
        <p:xfrm>
          <a:off x="533520" y="3352680"/>
          <a:ext cx="162540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52680"/>
                    <a:ext cx="1625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2" name="Rectangle 13"/>
          <p:cNvSpPr/>
          <p:nvPr/>
        </p:nvSpPr>
        <p:spPr>
          <a:xfrm>
            <a:off x="2065320" y="582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Object 14"/>
          <p:cNvGraphicFramePr/>
          <p:nvPr/>
        </p:nvGraphicFramePr>
        <p:xfrm>
          <a:off x="444600" y="4278240"/>
          <a:ext cx="169524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4278240"/>
                    <a:ext cx="1695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Rectangle 17"/>
          <p:cNvSpPr/>
          <p:nvPr/>
        </p:nvSpPr>
        <p:spPr>
          <a:xfrm>
            <a:off x="3875400" y="4777200"/>
            <a:ext cx="49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o calculat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, take logs of both sides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8"/>
          <p:cNvSpPr/>
          <p:nvPr/>
        </p:nvSpPr>
        <p:spPr>
          <a:xfrm>
            <a:off x="3680280" y="5460120"/>
            <a:ext cx="509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implify, using log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Times New Roman"/>
                <a:ea typeface="Arial Unicode MS"/>
              </a:rPr>
              <a:t>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= 1 (cancels out)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8" name="Object 22"/>
          <p:cNvGraphicFramePr/>
          <p:nvPr/>
        </p:nvGraphicFramePr>
        <p:xfrm>
          <a:off x="304920" y="4876920"/>
          <a:ext cx="22730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876920"/>
                    <a:ext cx="2273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0" name="Line 24"/>
          <p:cNvSpPr/>
          <p:nvPr/>
        </p:nvSpPr>
        <p:spPr>
          <a:xfrm flipV="1">
            <a:off x="6095880" y="5790960"/>
            <a:ext cx="76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25"/>
          <p:cNvSpPr/>
          <p:nvPr/>
        </p:nvSpPr>
        <p:spPr>
          <a:xfrm flipV="1">
            <a:off x="6324480" y="5638680"/>
            <a:ext cx="7632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26"/>
          <p:cNvSpPr/>
          <p:nvPr/>
        </p:nvSpPr>
        <p:spPr>
          <a:xfrm>
            <a:off x="3044520" y="213228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As ≥ is infinite (no upper limit), we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complement, knowing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(X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Arial"/>
              </a:rPr>
              <a:t>&gt;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) = 1- P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914400" y="6172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=  0.5108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9"/>
          <p:cNvSpPr/>
          <p:nvPr/>
        </p:nvSpPr>
        <p:spPr>
          <a:xfrm>
            <a:off x="838080" y="5410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l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0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9"/>
          <p:cNvSpPr/>
          <p:nvPr/>
        </p:nvSpPr>
        <p:spPr>
          <a:xfrm>
            <a:off x="0" y="838080"/>
            <a:ext cx="9144000" cy="206460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old Sigma p90: Ex. 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new version: p347 – Ex. 16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omplete for 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4:  Problems that involve the use of more than 1 type of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980720"/>
            <a:ext cx="81532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lve problems involving a mixture of all 3 types of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Key skill: identifying the appropriate distribution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STARTER:  Go over HW qs from Inverse Poisson chapter in Sig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. Revision worksheet for all 3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. Do Sigma (NEW): p384 – Ex. 18.03.  Finish Q1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0" y="1295280"/>
            <a:ext cx="9144000" cy="17618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0" y="1295280"/>
            <a:ext cx="9144000" cy="200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9"/>
          <p:cNvSpPr/>
          <p:nvPr/>
        </p:nvSpPr>
        <p:spPr>
          <a:xfrm>
            <a:off x="0" y="129528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0" y="2983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6"/>
          <p:cNvSpPr/>
          <p:nvPr/>
        </p:nvSpPr>
        <p:spPr>
          <a:xfrm>
            <a:off x="250920" y="380880"/>
            <a:ext cx="88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Problems that require the use of more than one type of probability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0" y="129528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8"/>
          <p:cNvSpPr/>
          <p:nvPr/>
        </p:nvSpPr>
        <p:spPr>
          <a:xfrm>
            <a:off x="0" y="2983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t an athletics meeting, the highest successful attempt at the high-jump by different athletes is known to be normally distributed with a mean of 1.4m and a standard deviation of 1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n athlete chosen at random can jump 1.5m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. that 2 consecutive athletes chosen at random both fail to jump 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3 athletes are chosen at random, calculate the prob. that all three of them have a highest successful jump between 1.2 &amp; 1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times probabilities calculated from one distribution can be used as parameters in another distribution.  A typical e.g. is when a Normal Distribution probability is used as the probability of an individual trial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in a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8"/>
          <p:cNvSpPr/>
          <p:nvPr/>
        </p:nvSpPr>
        <p:spPr>
          <a:xfrm>
            <a:off x="0" y="20322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4 – Ex. 18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t an athletics meeting, the highest successful attempt at the high-jump by different athletes is known to be normally distributed with a mean of 1.4m and a standard deviation of 1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n athlete chosen at random can jump 1.5m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prob. that 2 consecutive athletes chosen at random both fail to jump 1.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3 athletes are chosen at random, calculate the prob. that all three of them have a highest successful jump between 1.2 &amp; 1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nly one out of three athle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hosen at random can jum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ver 1.6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EXTENSION SESSION:</a:t>
            </a: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Approximations – approximating between all 3 distrib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51920" y="1752480"/>
            <a:ext cx="899172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Solve problems involving a mixture of all 3 types of distrib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Key skill: identifying the appropriate distribution to 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Handout on approximations (flow-chart).  View applet (graphical demonstration using bar graph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Problems to get the hang of approximating – all in Sigma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old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ed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Approximating betwe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the Binomial with the Poisson: p121 – Ex. 8.2 Q1 &amp; 2 on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the Poisson with the Normal:  p123– Ex. 8.3 Q1 &amp; 2 on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- mixed approximation problems: p125 – Ex. 8.4. 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HW:  Challenge problem s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e use the Poisson Distribution when counting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a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iscrete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ver a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given continuous interval (time/spa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Number of earthquakes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yea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n Christ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304920" y="3124080"/>
            <a:ext cx="7772400" cy="2571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’ll be using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oisson Distributio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o calculate the probability of an event occurring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304920" y="5943600"/>
            <a:ext cx="7772400" cy="6426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s the Greek symbo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Only in scholarship exam now – see first version of NuLake (2004) for concis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 chapter in Sigma 2</a:t>
            </a:r>
            <a:r>
              <a:rPr b="0" i="1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Approximating from the Binomial Distribution to the Poi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n only use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extreme (probabilities are very close to 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Question: Why must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large and </a:t>
            </a:r>
            <a:r>
              <a:rPr b="0" lang="en-N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close to 0 or 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Hint: What do the Binomial and Poisson Dists have in comm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oth model how often an event occurs (counting – discre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Another hi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4"/>
          <p:cNvSpPr/>
          <p:nvPr/>
        </p:nvSpPr>
        <p:spPr>
          <a:xfrm>
            <a:off x="3989520" y="2514600"/>
            <a:ext cx="1523880" cy="10688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152280" y="3429000"/>
            <a:ext cx="8077320" cy="1556280"/>
          </a:xfrm>
          <a:prstGeom prst="rect">
            <a:avLst/>
          </a:prstGeom>
          <a:solidFill>
            <a:srgbClr val="ffffff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Do “Comparing Models” handout, JUST THE FIRST PAGE.  (from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chieving in Statistics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workboo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0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Approximating from the Binomial Distribution to the Poi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n only use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extreme (probabilities are very close to 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Question: Why must </a:t>
            </a:r>
            <a:r>
              <a:rPr b="0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large and </a:t>
            </a:r>
            <a:r>
              <a:rPr b="0" lang="en-NZ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be close to 0 or 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Hint: What do the Binomial and Poisson Dists have in comm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oth model how often an event occurs (counting – discre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Another hint: What is different about the Binomial &amp; Poisson distribu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Answer: Binomial used when event occurs within a fixed number of trials (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discrete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Poisson used when event occurs within a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inuous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inter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3989520" y="2514600"/>
            <a:ext cx="1523880" cy="106884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0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 challeng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ble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a certain suburb, 30% of new homes are built with an outdoor bbq area, and 2% of new homes require alterations after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andom sample of 50 homes is to be taken.  Find the probability that no more than 20 homes in this sample will be built with an outdoor bbq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other sample of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ew homes is to be taken. Find the value of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 that the probability that the sample contains no homes requiring alterations is approximately 0.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proximations challeng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roble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3" descr=""/>
          <p:cNvPicPr/>
          <p:nvPr/>
        </p:nvPicPr>
        <p:blipFill>
          <a:blip r:embed="rId1"/>
          <a:stretch/>
        </p:blipFill>
        <p:spPr>
          <a:xfrm>
            <a:off x="858960" y="2133720"/>
            <a:ext cx="6808680" cy="3240000"/>
          </a:xfrm>
          <a:prstGeom prst="rect">
            <a:avLst/>
          </a:prstGeom>
          <a:ln w="0">
            <a:noFill/>
          </a:ln>
        </p:spPr>
      </p:pic>
      <p:sp>
        <p:nvSpPr>
          <p:cNvPr id="1024" name="TextBox 4"/>
          <p:cNvSpPr/>
          <p:nvPr/>
        </p:nvSpPr>
        <p:spPr>
          <a:xfrm>
            <a:off x="555480" y="2124000"/>
            <a:ext cx="6066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28240" y="1676520"/>
            <a:ext cx="8534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8800" spc="-1" strike="noStrike">
                <a:solidFill>
                  <a:srgbClr val="000000"/>
                </a:solidFill>
                <a:latin typeface="Comic Sans MS"/>
              </a:rPr>
              <a:t>TEST</a:t>
            </a:r>
            <a:br>
              <a:rPr sz="3600"/>
            </a:b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Formative assessment of AS9064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457200" y="45720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cholarshi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2"/>
          <p:cNvSpPr/>
          <p:nvPr/>
        </p:nvSpPr>
        <p:spPr>
          <a:xfrm>
            <a:off x="-35640" y="33526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3" name="Object 3"/>
          <p:cNvGraphicFramePr/>
          <p:nvPr/>
        </p:nvGraphicFramePr>
        <p:xfrm>
          <a:off x="1295280" y="3657600"/>
          <a:ext cx="221004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57600"/>
                    <a:ext cx="22100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4"/>
          <p:cNvGraphicFramePr/>
          <p:nvPr/>
        </p:nvGraphicFramePr>
        <p:xfrm>
          <a:off x="4475160" y="1860480"/>
          <a:ext cx="421164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1860480"/>
                    <a:ext cx="42116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Rectangle 5"/>
          <p:cNvSpPr/>
          <p:nvPr/>
        </p:nvSpPr>
        <p:spPr>
          <a:xfrm>
            <a:off x="304920" y="74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: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 product has a normally distributed weight with μ = 1kg.  If the risk of marketing a product more than 50g underweight must be less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%, what is the maximum allowable standard devi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t X be a random variable representing the weight of the product in 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6"/>
          <p:cNvSpPr/>
          <p:nvPr/>
        </p:nvSpPr>
        <p:spPr>
          <a:xfrm>
            <a:off x="564480" y="2056680"/>
            <a:ext cx="46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50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7"/>
          <p:cNvSpPr/>
          <p:nvPr/>
        </p:nvSpPr>
        <p:spPr>
          <a:xfrm>
            <a:off x="914040" y="2773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8"/>
          <p:cNvSpPr/>
          <p:nvPr/>
        </p:nvSpPr>
        <p:spPr>
          <a:xfrm>
            <a:off x="329040" y="4570920"/>
            <a:ext cx="69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maximum value of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ake     P( Z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9"/>
          <p:cNvSpPr/>
          <p:nvPr/>
        </p:nvSpPr>
        <p:spPr>
          <a:xfrm>
            <a:off x="382680" y="4615920"/>
            <a:ext cx="56671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2" name="Object 10"/>
          <p:cNvGraphicFramePr/>
          <p:nvPr/>
        </p:nvGraphicFramePr>
        <p:xfrm>
          <a:off x="1905120" y="3048120"/>
          <a:ext cx="167616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3048120"/>
                    <a:ext cx="167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11"/>
          <p:cNvGraphicFramePr/>
          <p:nvPr/>
        </p:nvGraphicFramePr>
        <p:xfrm>
          <a:off x="4648320" y="4267080"/>
          <a:ext cx="2209680" cy="95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4267080"/>
                    <a:ext cx="22096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6" name="Rectangle 13"/>
          <p:cNvSpPr/>
          <p:nvPr/>
        </p:nvSpPr>
        <p:spPr>
          <a:xfrm>
            <a:off x="-10800" y="4972320"/>
            <a:ext cx="4146120" cy="88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, we can use tables or graphics ca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find, based on prob of 0.01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=-2.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4"/>
          <p:cNvSpPr/>
          <p:nvPr/>
        </p:nvSpPr>
        <p:spPr>
          <a:xfrm>
            <a:off x="531360" y="6023880"/>
            <a:ext cx="3422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-arranging to solve for </a:t>
            </a:r>
            <a:r>
              <a:rPr b="1" i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Object 15"/>
              <p:cNvSpPr txBox="1"/>
              <p:nvPr/>
            </p:nvSpPr>
            <p:spPr>
              <a:xfrm>
                <a:off x="4267080" y="5029200"/>
                <a:ext cx="2438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7"/>
          <p:cNvSpPr/>
          <p:nvPr/>
        </p:nvSpPr>
        <p:spPr>
          <a:xfrm>
            <a:off x="228600" y="6400800"/>
            <a:ext cx="8305920" cy="4572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2"/>
          <p:cNvSpPr/>
          <p:nvPr/>
        </p:nvSpPr>
        <p:spPr>
          <a:xfrm>
            <a:off x="-35640" y="33526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2" name="Object 4"/>
          <p:cNvGraphicFramePr/>
          <p:nvPr/>
        </p:nvGraphicFramePr>
        <p:xfrm>
          <a:off x="4475160" y="1860480"/>
          <a:ext cx="421164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5160" y="1860480"/>
                    <a:ext cx="421164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4" name="Rectangle 5"/>
          <p:cNvSpPr/>
          <p:nvPr/>
        </p:nvSpPr>
        <p:spPr>
          <a:xfrm>
            <a:off x="304920" y="745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ER: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A product has a normally distributed weight with μ = 1kg.  If the risk of marketing a product more than 50g underweight must be less th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%, what is the maximum allowable standard devi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t X be a random variable representing the weight of the product in 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564480" y="2056680"/>
            <a:ext cx="46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50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914040" y="2773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329040" y="4570920"/>
            <a:ext cx="69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maximum value of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ake     P( Z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0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332280" y="4615920"/>
            <a:ext cx="91476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2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21.5 is the maximum allowable standard deviation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9" name="Object 10"/>
          <p:cNvGraphicFramePr/>
          <p:nvPr/>
        </p:nvGraphicFramePr>
        <p:xfrm>
          <a:off x="1905120" y="3048120"/>
          <a:ext cx="16761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048120"/>
                    <a:ext cx="16761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Rectangle 12"/>
          <p:cNvSpPr/>
          <p:nvPr/>
        </p:nvSpPr>
        <p:spPr>
          <a:xfrm>
            <a:off x="-10800" y="4972320"/>
            <a:ext cx="4146120" cy="88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, we can use tables or graphics cal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find, based on prob of 0.01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=-2.33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13"/>
          <p:cNvSpPr/>
          <p:nvPr/>
        </p:nvSpPr>
        <p:spPr>
          <a:xfrm>
            <a:off x="531360" y="6023880"/>
            <a:ext cx="3422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-arranging to solve for </a:t>
            </a:r>
            <a:r>
              <a:rPr b="1" i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18"/>
              <p:cNvSpPr txBox="1"/>
              <p:nvPr/>
            </p:nvSpPr>
            <p:spPr>
              <a:xfrm>
                <a:off x="4237200" y="5029200"/>
                <a:ext cx="227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9" dur="500"/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Population density  -  Number of people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square km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House burglaries reported 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per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Comic Sans MS"/>
              </a:rPr>
              <a:t>week</a:t>
            </a: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n Christ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80880" y="4995720"/>
            <a:ext cx="7772400" cy="1169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380880" y="2362320"/>
            <a:ext cx="7772400" cy="2571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’ll be using the Poisson Distribution to calculate the probability of an event occurring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7.0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-11160" y="225360"/>
            <a:ext cx="893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proportion of overweight suitcases weigh less than 22 k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0" y="0"/>
            <a:ext cx="9144000" cy="2176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-19800" y="2284560"/>
            <a:ext cx="91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Use your graphics calculator to work out the probability that a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ingl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 suitcase is overweight to 4 s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"/>
          <p:cNvSpPr/>
          <p:nvPr/>
        </p:nvSpPr>
        <p:spPr>
          <a:xfrm>
            <a:off x="0" y="0"/>
            <a:ext cx="9144000" cy="2176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426240" y="21848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ex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1680120" y="263592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22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1667520" y="21848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2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"/>
          <p:cNvSpPr/>
          <p:nvPr/>
        </p:nvSpPr>
        <p:spPr>
          <a:xfrm>
            <a:off x="152280" y="281880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Draw a tree diagram to show the possibilities for two suitcases</a:t>
            </a:r>
            <a:r>
              <a:rPr b="0" lang="en-US" sz="23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5"/>
          <p:cNvSpPr/>
          <p:nvPr/>
        </p:nvSpPr>
        <p:spPr>
          <a:xfrm>
            <a:off x="419760" y="22356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3759120" y="6103800"/>
            <a:ext cx="88596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0" y="0"/>
            <a:ext cx="9144000" cy="2227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217440" y="-2880"/>
            <a:ext cx="89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wo consecutive passengers both hav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ay for excess bagg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"/>
          <p:cNvSpPr/>
          <p:nvPr/>
        </p:nvSpPr>
        <p:spPr>
          <a:xfrm>
            <a:off x="412200" y="56584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two cases over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7"/>
          <p:cNvSpPr/>
          <p:nvPr/>
        </p:nvSpPr>
        <p:spPr>
          <a:xfrm>
            <a:off x="3421080" y="56552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226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3458880" y="61203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05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9"/>
          <p:cNvSpPr/>
          <p:nvPr/>
        </p:nvSpPr>
        <p:spPr>
          <a:xfrm>
            <a:off x="419760" y="223560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 0.2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0"/>
          <p:cNvSpPr/>
          <p:nvPr/>
        </p:nvSpPr>
        <p:spPr>
          <a:xfrm>
            <a:off x="501480" y="2730600"/>
            <a:ext cx="8642520" cy="286848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1"/>
          <p:cNvGrpSpPr/>
          <p:nvPr/>
        </p:nvGrpSpPr>
        <p:grpSpPr>
          <a:xfrm>
            <a:off x="952560" y="3195720"/>
            <a:ext cx="3668760" cy="1848600"/>
            <a:chOff x="952560" y="3195720"/>
            <a:chExt cx="3668760" cy="1848600"/>
          </a:xfrm>
        </p:grpSpPr>
        <p:grpSp>
          <p:nvGrpSpPr>
            <p:cNvPr id="1093" name="Group 12"/>
            <p:cNvGrpSpPr/>
            <p:nvPr/>
          </p:nvGrpSpPr>
          <p:grpSpPr>
            <a:xfrm>
              <a:off x="952560" y="3522240"/>
              <a:ext cx="1452240" cy="1302840"/>
              <a:chOff x="952560" y="3522240"/>
              <a:chExt cx="1452240" cy="1302840"/>
            </a:xfrm>
          </p:grpSpPr>
          <p:sp>
            <p:nvSpPr>
              <p:cNvPr id="1094" name="Line 13"/>
              <p:cNvSpPr/>
              <p:nvPr/>
            </p:nvSpPr>
            <p:spPr>
              <a:xfrm flipV="1">
                <a:off x="952560" y="3522240"/>
                <a:ext cx="1452240" cy="650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14"/>
              <p:cNvSpPr/>
              <p:nvPr/>
            </p:nvSpPr>
            <p:spPr>
              <a:xfrm>
                <a:off x="952560" y="4174560"/>
                <a:ext cx="1452240" cy="650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Text Box 15"/>
            <p:cNvSpPr/>
            <p:nvPr/>
          </p:nvSpPr>
          <p:spPr>
            <a:xfrm>
              <a:off x="2454120" y="3195720"/>
              <a:ext cx="17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16"/>
            <p:cNvSpPr/>
            <p:nvPr/>
          </p:nvSpPr>
          <p:spPr>
            <a:xfrm>
              <a:off x="2454120" y="4584600"/>
              <a:ext cx="21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17"/>
          <p:cNvGrpSpPr/>
          <p:nvPr/>
        </p:nvGrpSpPr>
        <p:grpSpPr>
          <a:xfrm>
            <a:off x="4287960" y="2703600"/>
            <a:ext cx="4317840" cy="1385280"/>
            <a:chOff x="4287960" y="2703600"/>
            <a:chExt cx="4317840" cy="1385280"/>
          </a:xfrm>
        </p:grpSpPr>
        <p:grpSp>
          <p:nvGrpSpPr>
            <p:cNvPr id="1099" name="Group 18"/>
            <p:cNvGrpSpPr/>
            <p:nvPr/>
          </p:nvGrpSpPr>
          <p:grpSpPr>
            <a:xfrm>
              <a:off x="4287960" y="2970000"/>
              <a:ext cx="2040840" cy="889200"/>
              <a:chOff x="4287960" y="2970000"/>
              <a:chExt cx="2040840" cy="889200"/>
            </a:xfrm>
          </p:grpSpPr>
          <p:sp>
            <p:nvSpPr>
              <p:cNvPr id="1100" name="Line 19"/>
              <p:cNvSpPr/>
              <p:nvPr/>
            </p:nvSpPr>
            <p:spPr>
              <a:xfrm flipV="1">
                <a:off x="4287960" y="297000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20"/>
              <p:cNvSpPr/>
              <p:nvPr/>
            </p:nvSpPr>
            <p:spPr>
              <a:xfrm>
                <a:off x="4287960" y="341532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2" name="Text Box 21"/>
            <p:cNvSpPr/>
            <p:nvPr/>
          </p:nvSpPr>
          <p:spPr>
            <a:xfrm>
              <a:off x="6400800" y="270360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22"/>
            <p:cNvSpPr/>
            <p:nvPr/>
          </p:nvSpPr>
          <p:spPr>
            <a:xfrm>
              <a:off x="6438960" y="3629160"/>
              <a:ext cx="21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Group 23"/>
          <p:cNvGrpSpPr/>
          <p:nvPr/>
        </p:nvGrpSpPr>
        <p:grpSpPr>
          <a:xfrm>
            <a:off x="4287960" y="4197240"/>
            <a:ext cx="4317840" cy="1385280"/>
            <a:chOff x="4287960" y="4197240"/>
            <a:chExt cx="4317840" cy="1385280"/>
          </a:xfrm>
        </p:grpSpPr>
        <p:grpSp>
          <p:nvGrpSpPr>
            <p:cNvPr id="1105" name="Group 24"/>
            <p:cNvGrpSpPr/>
            <p:nvPr/>
          </p:nvGrpSpPr>
          <p:grpSpPr>
            <a:xfrm>
              <a:off x="4287960" y="4463640"/>
              <a:ext cx="2040840" cy="889200"/>
              <a:chOff x="4287960" y="4463640"/>
              <a:chExt cx="2040840" cy="889200"/>
            </a:xfrm>
          </p:grpSpPr>
          <p:sp>
            <p:nvSpPr>
              <p:cNvPr id="1106" name="Line 25"/>
              <p:cNvSpPr/>
              <p:nvPr/>
            </p:nvSpPr>
            <p:spPr>
              <a:xfrm flipV="1">
                <a:off x="4287960" y="446364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26"/>
              <p:cNvSpPr/>
              <p:nvPr/>
            </p:nvSpPr>
            <p:spPr>
              <a:xfrm>
                <a:off x="4287960" y="4908960"/>
                <a:ext cx="2040840" cy="443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Text Box 27"/>
            <p:cNvSpPr/>
            <p:nvPr/>
          </p:nvSpPr>
          <p:spPr>
            <a:xfrm>
              <a:off x="6400800" y="4197240"/>
              <a:ext cx="17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Ov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28"/>
            <p:cNvSpPr/>
            <p:nvPr/>
          </p:nvSpPr>
          <p:spPr>
            <a:xfrm>
              <a:off x="6438960" y="5122800"/>
              <a:ext cx="216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Under 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Rectangle 29"/>
          <p:cNvSpPr/>
          <p:nvPr/>
        </p:nvSpPr>
        <p:spPr>
          <a:xfrm>
            <a:off x="1068840" y="33310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0.22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068840" y="45853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Times New Roman"/>
                <a:ea typeface="Arial"/>
              </a:rPr>
              <a:t>0.77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31"/>
          <p:cNvGrpSpPr/>
          <p:nvPr/>
        </p:nvGrpSpPr>
        <p:grpSpPr>
          <a:xfrm>
            <a:off x="4659840" y="2805840"/>
            <a:ext cx="884880" cy="2716560"/>
            <a:chOff x="4659840" y="2805840"/>
            <a:chExt cx="884880" cy="2716560"/>
          </a:xfrm>
        </p:grpSpPr>
        <p:sp>
          <p:nvSpPr>
            <p:cNvPr id="1113" name="Rectangle 32"/>
            <p:cNvSpPr/>
            <p:nvPr/>
          </p:nvSpPr>
          <p:spPr>
            <a:xfrm>
              <a:off x="4659840" y="280584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22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33"/>
            <p:cNvSpPr/>
            <p:nvPr/>
          </p:nvSpPr>
          <p:spPr>
            <a:xfrm>
              <a:off x="4659840" y="429480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22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34"/>
            <p:cNvSpPr/>
            <p:nvPr/>
          </p:nvSpPr>
          <p:spPr>
            <a:xfrm>
              <a:off x="4659840" y="366948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77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35"/>
            <p:cNvSpPr/>
            <p:nvPr/>
          </p:nvSpPr>
          <p:spPr>
            <a:xfrm>
              <a:off x="4659840" y="51235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8000"/>
                  </a:solidFill>
                  <a:latin typeface="Times New Roman"/>
                  <a:ea typeface="Arial"/>
                </a:rPr>
                <a:t>0.77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36"/>
          <p:cNvGrpSpPr/>
          <p:nvPr/>
        </p:nvGrpSpPr>
        <p:grpSpPr>
          <a:xfrm>
            <a:off x="947880" y="2596320"/>
            <a:ext cx="7718040" cy="1578960"/>
            <a:chOff x="947880" y="2596320"/>
            <a:chExt cx="7718040" cy="1578960"/>
          </a:xfrm>
        </p:grpSpPr>
        <p:grpSp>
          <p:nvGrpSpPr>
            <p:cNvPr id="1118" name="Group 37"/>
            <p:cNvGrpSpPr/>
            <p:nvPr/>
          </p:nvGrpSpPr>
          <p:grpSpPr>
            <a:xfrm>
              <a:off x="947880" y="2966760"/>
              <a:ext cx="5376600" cy="1208520"/>
              <a:chOff x="947880" y="2966760"/>
              <a:chExt cx="5376600" cy="1208520"/>
            </a:xfrm>
          </p:grpSpPr>
          <p:sp>
            <p:nvSpPr>
              <p:cNvPr id="1119" name="Line 38"/>
              <p:cNvSpPr/>
              <p:nvPr/>
            </p:nvSpPr>
            <p:spPr>
              <a:xfrm flipV="1">
                <a:off x="947880" y="3519360"/>
                <a:ext cx="1457280" cy="655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39"/>
              <p:cNvSpPr/>
              <p:nvPr/>
            </p:nvSpPr>
            <p:spPr>
              <a:xfrm flipV="1">
                <a:off x="4284720" y="2966760"/>
                <a:ext cx="2039760" cy="452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1" name="Rectangle 40"/>
            <p:cNvSpPr/>
            <p:nvPr/>
          </p:nvSpPr>
          <p:spPr>
            <a:xfrm>
              <a:off x="8104320" y="25963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*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3276720" y="5037120"/>
            <a:ext cx="16732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0" y="0"/>
            <a:ext cx="9144000" cy="1916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5"/>
          <p:cNvSpPr/>
          <p:nvPr/>
        </p:nvSpPr>
        <p:spPr>
          <a:xfrm>
            <a:off x="216000" y="-2520"/>
            <a:ext cx="89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weights of suitcases received by an airline at check-in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odelled by a normal distribution with mean 17 kg and stand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viation 4 kg. The airline charges for excess baggage if a suitc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‘overweight’—defined as weighing more than 20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What proportion of overweight suitcases weigh less than 22 k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"/>
          <p:cNvSpPr/>
          <p:nvPr/>
        </p:nvSpPr>
        <p:spPr>
          <a:xfrm>
            <a:off x="360720" y="207072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is is 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dition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7"/>
          <p:cNvSpPr/>
          <p:nvPr/>
        </p:nvSpPr>
        <p:spPr>
          <a:xfrm>
            <a:off x="757080" y="2972160"/>
            <a:ext cx="25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22/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gt; 20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9" name="Object 9"/>
          <p:cNvGraphicFramePr/>
          <p:nvPr/>
        </p:nvGraphicFramePr>
        <p:xfrm>
          <a:off x="3276720" y="2851200"/>
          <a:ext cx="21715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851200"/>
                    <a:ext cx="21715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11"/>
          <p:cNvGraphicFramePr/>
          <p:nvPr/>
        </p:nvGraphicFramePr>
        <p:xfrm>
          <a:off x="3016080" y="3924360"/>
          <a:ext cx="193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6080" y="3924360"/>
                    <a:ext cx="193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12"/>
          <p:cNvSpPr/>
          <p:nvPr/>
        </p:nvSpPr>
        <p:spPr>
          <a:xfrm>
            <a:off x="2959560" y="508068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5338 (4 s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3"/>
          <p:cNvSpPr/>
          <p:nvPr/>
        </p:nvSpPr>
        <p:spPr>
          <a:xfrm>
            <a:off x="4415040" y="20707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that </a:t>
            </a: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&lt; 22, given that </a:t>
            </a: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&gt; 2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4"/>
          <p:cNvSpPr/>
          <p:nvPr/>
        </p:nvSpPr>
        <p:spPr>
          <a:xfrm>
            <a:off x="457200" y="5555880"/>
            <a:ext cx="86868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mbined Events for Poisson, Normal and Binomi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Q31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(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303</a:t>
            </a:r>
            <a:r>
              <a:rPr b="0" i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05 in 2007 edi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5"/>
          <p:cNvSpPr/>
          <p:nvPr/>
        </p:nvSpPr>
        <p:spPr>
          <a:xfrm>
            <a:off x="761040" y="2648520"/>
            <a:ext cx="31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a probability tree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46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147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9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Group 13"/>
          <p:cNvGrpSpPr/>
          <p:nvPr/>
        </p:nvGrpSpPr>
        <p:grpSpPr>
          <a:xfrm>
            <a:off x="3379680" y="2567160"/>
            <a:ext cx="3913200" cy="2903760"/>
            <a:chOff x="3379680" y="2567160"/>
            <a:chExt cx="3913200" cy="2903760"/>
          </a:xfrm>
        </p:grpSpPr>
        <p:grpSp>
          <p:nvGrpSpPr>
            <p:cNvPr id="1154" name="Group 14"/>
            <p:cNvGrpSpPr/>
            <p:nvPr/>
          </p:nvGrpSpPr>
          <p:grpSpPr>
            <a:xfrm>
              <a:off x="3379680" y="2567160"/>
              <a:ext cx="3913200" cy="2903760"/>
              <a:chOff x="3379680" y="2567160"/>
              <a:chExt cx="3913200" cy="2903760"/>
            </a:xfrm>
          </p:grpSpPr>
          <p:grpSp>
            <p:nvGrpSpPr>
              <p:cNvPr id="1155" name="Group 15"/>
              <p:cNvGrpSpPr/>
              <p:nvPr/>
            </p:nvGrpSpPr>
            <p:grpSpPr>
              <a:xfrm>
                <a:off x="3379680" y="2567160"/>
                <a:ext cx="3913200" cy="1364040"/>
                <a:chOff x="3379680" y="2567160"/>
                <a:chExt cx="3913200" cy="1364040"/>
              </a:xfrm>
            </p:grpSpPr>
            <p:grpSp>
              <p:nvGrpSpPr>
                <p:cNvPr id="1156" name="Group 16"/>
                <p:cNvGrpSpPr/>
                <p:nvPr/>
              </p:nvGrpSpPr>
              <p:grpSpPr>
                <a:xfrm>
                  <a:off x="3379680" y="2890800"/>
                  <a:ext cx="901440" cy="845640"/>
                  <a:chOff x="3379680" y="2890800"/>
                  <a:chExt cx="901440" cy="845640"/>
                </a:xfrm>
              </p:grpSpPr>
              <p:sp>
                <p:nvSpPr>
                  <p:cNvPr id="1157" name="Line 17"/>
                  <p:cNvSpPr/>
                  <p:nvPr/>
                </p:nvSpPr>
                <p:spPr>
                  <a:xfrm flipV="1">
                    <a:off x="3379680" y="289080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18"/>
                  <p:cNvSpPr/>
                  <p:nvPr/>
                </p:nvSpPr>
                <p:spPr>
                  <a:xfrm>
                    <a:off x="3379680" y="3314160"/>
                    <a:ext cx="901440" cy="42228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Text Box 19"/>
                <p:cNvSpPr/>
                <p:nvPr/>
              </p:nvSpPr>
              <p:spPr>
                <a:xfrm>
                  <a:off x="4410000" y="256716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Text Box 20"/>
                <p:cNvSpPr/>
                <p:nvPr/>
              </p:nvSpPr>
              <p:spPr>
                <a:xfrm>
                  <a:off x="4410000" y="353232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Group 21"/>
              <p:cNvGrpSpPr/>
              <p:nvPr/>
            </p:nvGrpSpPr>
            <p:grpSpPr>
              <a:xfrm>
                <a:off x="3379680" y="4157640"/>
                <a:ext cx="3913200" cy="1313280"/>
                <a:chOff x="3379680" y="4157640"/>
                <a:chExt cx="3913200" cy="1313280"/>
              </a:xfrm>
            </p:grpSpPr>
            <p:grpSp>
              <p:nvGrpSpPr>
                <p:cNvPr id="1162" name="Group 22"/>
                <p:cNvGrpSpPr/>
                <p:nvPr/>
              </p:nvGrpSpPr>
              <p:grpSpPr>
                <a:xfrm>
                  <a:off x="3379680" y="4444920"/>
                  <a:ext cx="901440" cy="846360"/>
                  <a:chOff x="3379680" y="4444920"/>
                  <a:chExt cx="901440" cy="846360"/>
                </a:xfrm>
              </p:grpSpPr>
              <p:sp>
                <p:nvSpPr>
                  <p:cNvPr id="1163" name="Line 23"/>
                  <p:cNvSpPr/>
                  <p:nvPr/>
                </p:nvSpPr>
                <p:spPr>
                  <a:xfrm flipV="1">
                    <a:off x="3379680" y="444492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24"/>
                  <p:cNvSpPr/>
                  <p:nvPr/>
                </p:nvSpPr>
                <p:spPr>
                  <a:xfrm>
                    <a:off x="3379680" y="486864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5" name="Text Box 25"/>
                <p:cNvSpPr/>
                <p:nvPr/>
              </p:nvSpPr>
              <p:spPr>
                <a:xfrm>
                  <a:off x="4410000" y="415764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Text Box 26"/>
                <p:cNvSpPr/>
                <p:nvPr/>
              </p:nvSpPr>
              <p:spPr>
                <a:xfrm>
                  <a:off x="4410000" y="507204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3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7" name="Text Box 27"/>
            <p:cNvSpPr/>
            <p:nvPr/>
          </p:nvSpPr>
          <p:spPr>
            <a:xfrm>
              <a:off x="3557520" y="268272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28"/>
            <p:cNvSpPr/>
            <p:nvPr/>
          </p:nvSpPr>
          <p:spPr>
            <a:xfrm>
              <a:off x="3557520" y="428616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Text Box 29"/>
          <p:cNvSpPr/>
          <p:nvPr/>
        </p:nvSpPr>
        <p:spPr>
          <a:xfrm>
            <a:off x="3556080" y="306864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2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4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74" name="Group 5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175" name="Line 6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7" name="Text Box 8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Text Box 9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Text Box 10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Text Box 11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Group 12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182" name="Line 13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4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Text Box 15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6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17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187" name="Line 18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9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Text Box 20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21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22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8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3"/>
          <p:cNvSpPr/>
          <p:nvPr/>
        </p:nvSpPr>
        <p:spPr>
          <a:xfrm>
            <a:off x="3557520" y="428616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24"/>
          <p:cNvSpPr/>
          <p:nvPr/>
        </p:nvSpPr>
        <p:spPr>
          <a:xfrm>
            <a:off x="3568680" y="463392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5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14360" y="263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199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00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2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07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212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3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8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2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25"/>
          <p:cNvSpPr/>
          <p:nvPr/>
        </p:nvSpPr>
        <p:spPr>
          <a:xfrm>
            <a:off x="2654280" y="6207120"/>
            <a:ext cx="14288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26"/>
          <p:cNvSpPr/>
          <p:nvPr/>
        </p:nvSpPr>
        <p:spPr>
          <a:xfrm>
            <a:off x="525960" y="57488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3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27"/>
          <p:cNvSpPr/>
          <p:nvPr/>
        </p:nvSpPr>
        <p:spPr>
          <a:xfrm>
            <a:off x="2555640" y="57488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8"/>
          <p:cNvSpPr/>
          <p:nvPr/>
        </p:nvSpPr>
        <p:spPr>
          <a:xfrm>
            <a:off x="4176360" y="574884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2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2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Group 29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223" name="Line 30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31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Group 32"/>
          <p:cNvGrpSpPr/>
          <p:nvPr/>
        </p:nvGrpSpPr>
        <p:grpSpPr>
          <a:xfrm>
            <a:off x="1265400" y="4119480"/>
            <a:ext cx="3046320" cy="747360"/>
            <a:chOff x="1265400" y="4119480"/>
            <a:chExt cx="3046320" cy="747360"/>
          </a:xfrm>
        </p:grpSpPr>
        <p:sp>
          <p:nvSpPr>
            <p:cNvPr id="1226" name="Line 33"/>
            <p:cNvSpPr/>
            <p:nvPr/>
          </p:nvSpPr>
          <p:spPr>
            <a:xfrm>
              <a:off x="1265400" y="411948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34"/>
            <p:cNvSpPr/>
            <p:nvPr/>
          </p:nvSpPr>
          <p:spPr>
            <a:xfrm flipV="1">
              <a:off x="3376440" y="44287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Rectangle 35"/>
          <p:cNvSpPr/>
          <p:nvPr/>
        </p:nvSpPr>
        <p:spPr>
          <a:xfrm>
            <a:off x="2328120" y="62488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0.19 (2 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3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 Poisson Distribution is also known as the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Distribution of Rare Event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4 requirements for a Poisson Distribution are (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RIPS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1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dom: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vents occur a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random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(unpredictable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2.)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dependent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event occurs completely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independently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y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2286000"/>
            <a:ext cx="7772400" cy="8625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s the Greek symbol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Lambd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te of occur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04920" y="685800"/>
            <a:ext cx="7772400" cy="14724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’ll be using Poisson Distribution to calculate the probability of an event occurring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imes in a give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 will always be give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verage number of occurrenc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er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val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34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35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1" name="Group 13"/>
          <p:cNvGrpSpPr/>
          <p:nvPr/>
        </p:nvGrpSpPr>
        <p:grpSpPr>
          <a:xfrm>
            <a:off x="3379680" y="2567160"/>
            <a:ext cx="3913200" cy="2903760"/>
            <a:chOff x="3379680" y="2567160"/>
            <a:chExt cx="3913200" cy="2903760"/>
          </a:xfrm>
        </p:grpSpPr>
        <p:grpSp>
          <p:nvGrpSpPr>
            <p:cNvPr id="1242" name="Group 14"/>
            <p:cNvGrpSpPr/>
            <p:nvPr/>
          </p:nvGrpSpPr>
          <p:grpSpPr>
            <a:xfrm>
              <a:off x="3379680" y="2567160"/>
              <a:ext cx="3913200" cy="2903760"/>
              <a:chOff x="3379680" y="2567160"/>
              <a:chExt cx="3913200" cy="2903760"/>
            </a:xfrm>
          </p:grpSpPr>
          <p:grpSp>
            <p:nvGrpSpPr>
              <p:cNvPr id="1243" name="Group 15"/>
              <p:cNvGrpSpPr/>
              <p:nvPr/>
            </p:nvGrpSpPr>
            <p:grpSpPr>
              <a:xfrm>
                <a:off x="3379680" y="2567160"/>
                <a:ext cx="3913200" cy="1364040"/>
                <a:chOff x="3379680" y="2567160"/>
                <a:chExt cx="3913200" cy="1364040"/>
              </a:xfrm>
            </p:grpSpPr>
            <p:grpSp>
              <p:nvGrpSpPr>
                <p:cNvPr id="1244" name="Group 16"/>
                <p:cNvGrpSpPr/>
                <p:nvPr/>
              </p:nvGrpSpPr>
              <p:grpSpPr>
                <a:xfrm>
                  <a:off x="3379680" y="2890800"/>
                  <a:ext cx="901440" cy="845640"/>
                  <a:chOff x="3379680" y="2890800"/>
                  <a:chExt cx="901440" cy="845640"/>
                </a:xfrm>
              </p:grpSpPr>
              <p:sp>
                <p:nvSpPr>
                  <p:cNvPr id="1245" name="Line 17"/>
                  <p:cNvSpPr/>
                  <p:nvPr/>
                </p:nvSpPr>
                <p:spPr>
                  <a:xfrm flipV="1">
                    <a:off x="3379680" y="289080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18"/>
                  <p:cNvSpPr/>
                  <p:nvPr/>
                </p:nvSpPr>
                <p:spPr>
                  <a:xfrm>
                    <a:off x="3379680" y="3314160"/>
                    <a:ext cx="901440" cy="42228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7" name="Text Box 19"/>
                <p:cNvSpPr/>
                <p:nvPr/>
              </p:nvSpPr>
              <p:spPr>
                <a:xfrm>
                  <a:off x="4410000" y="256716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Text Box 20"/>
                <p:cNvSpPr/>
                <p:nvPr/>
              </p:nvSpPr>
              <p:spPr>
                <a:xfrm>
                  <a:off x="4410000" y="353232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Group 21"/>
              <p:cNvGrpSpPr/>
              <p:nvPr/>
            </p:nvGrpSpPr>
            <p:grpSpPr>
              <a:xfrm>
                <a:off x="3379680" y="4157640"/>
                <a:ext cx="3913200" cy="1313280"/>
                <a:chOff x="3379680" y="4157640"/>
                <a:chExt cx="3913200" cy="1313280"/>
              </a:xfrm>
            </p:grpSpPr>
            <p:grpSp>
              <p:nvGrpSpPr>
                <p:cNvPr id="1250" name="Group 22"/>
                <p:cNvGrpSpPr/>
                <p:nvPr/>
              </p:nvGrpSpPr>
              <p:grpSpPr>
                <a:xfrm>
                  <a:off x="3379680" y="4444920"/>
                  <a:ext cx="901440" cy="846360"/>
                  <a:chOff x="3379680" y="4444920"/>
                  <a:chExt cx="901440" cy="846360"/>
                </a:xfrm>
              </p:grpSpPr>
              <p:sp>
                <p:nvSpPr>
                  <p:cNvPr id="1251" name="Line 23"/>
                  <p:cNvSpPr/>
                  <p:nvPr/>
                </p:nvSpPr>
                <p:spPr>
                  <a:xfrm flipV="1">
                    <a:off x="3379680" y="444492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24"/>
                  <p:cNvSpPr/>
                  <p:nvPr/>
                </p:nvSpPr>
                <p:spPr>
                  <a:xfrm>
                    <a:off x="3379680" y="4868640"/>
                    <a:ext cx="901440" cy="42264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3" name="Text Box 25"/>
                <p:cNvSpPr/>
                <p:nvPr/>
              </p:nvSpPr>
              <p:spPr>
                <a:xfrm>
                  <a:off x="4410000" y="4157640"/>
                  <a:ext cx="1430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Text Box 26"/>
                <p:cNvSpPr/>
                <p:nvPr/>
              </p:nvSpPr>
              <p:spPr>
                <a:xfrm>
                  <a:off x="4410000" y="5072040"/>
                  <a:ext cx="288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99"/>
                      </a:solidFill>
                      <a:latin typeface="Times New Roman"/>
                      <a:ea typeface="Arial"/>
                    </a:rPr>
                    <a:t>other than 0 accid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5" name="Text Box 27"/>
            <p:cNvSpPr/>
            <p:nvPr/>
          </p:nvSpPr>
          <p:spPr>
            <a:xfrm>
              <a:off x="3557520" y="268272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Text Box 28"/>
            <p:cNvSpPr/>
            <p:nvPr/>
          </p:nvSpPr>
          <p:spPr>
            <a:xfrm>
              <a:off x="3557520" y="4286160"/>
              <a:ext cx="4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Text Box 29"/>
          <p:cNvSpPr/>
          <p:nvPr/>
        </p:nvSpPr>
        <p:spPr>
          <a:xfrm>
            <a:off x="3556080" y="3106800"/>
            <a:ext cx="39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2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Group 4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62" name="Group 5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63" name="Line 6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Line 7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Text Box 8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Text Box 9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10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11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12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70" name="Line 13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14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2" name="Text Box 15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6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7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275" name="Line 18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9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7" name="Text Box 20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21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2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Text Box 23"/>
          <p:cNvSpPr/>
          <p:nvPr/>
        </p:nvSpPr>
        <p:spPr>
          <a:xfrm>
            <a:off x="3557520" y="428616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4"/>
          <p:cNvSpPr/>
          <p:nvPr/>
        </p:nvSpPr>
        <p:spPr>
          <a:xfrm>
            <a:off x="3581280" y="4646520"/>
            <a:ext cx="39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Calculate using Poisson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3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25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287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288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0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295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00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2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5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26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308" name="Line 27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28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Group 29"/>
          <p:cNvGrpSpPr/>
          <p:nvPr/>
        </p:nvGrpSpPr>
        <p:grpSpPr>
          <a:xfrm>
            <a:off x="3918240" y="5596560"/>
            <a:ext cx="3904920" cy="891360"/>
            <a:chOff x="3918240" y="5596560"/>
            <a:chExt cx="3904920" cy="891360"/>
          </a:xfrm>
        </p:grpSpPr>
        <p:sp>
          <p:nvSpPr>
            <p:cNvPr id="1311" name="Rectangle 30"/>
            <p:cNvSpPr/>
            <p:nvPr/>
          </p:nvSpPr>
          <p:spPr>
            <a:xfrm>
              <a:off x="3918240" y="5596560"/>
              <a:ext cx="38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 AND 0 accidents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31"/>
            <p:cNvSpPr/>
            <p:nvPr/>
          </p:nvSpPr>
          <p:spPr>
            <a:xfrm>
              <a:off x="4704480" y="6028200"/>
              <a:ext cx="20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 0 accidents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32"/>
            <p:cNvSpPr/>
            <p:nvPr/>
          </p:nvSpPr>
          <p:spPr>
            <a:xfrm>
              <a:off x="3924360" y="6032520"/>
              <a:ext cx="389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Rectangle 33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19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20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2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27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32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4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Group 25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339" name="Line 26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27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1" name="Rectangle 28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9"/>
          <p:cNvSpPr/>
          <p:nvPr/>
        </p:nvSpPr>
        <p:spPr>
          <a:xfrm>
            <a:off x="4732200" y="559656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3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30"/>
          <p:cNvSpPr/>
          <p:nvPr/>
        </p:nvSpPr>
        <p:spPr>
          <a:xfrm>
            <a:off x="3924360" y="603252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31"/>
          <p:cNvSpPr/>
          <p:nvPr/>
        </p:nvSpPr>
        <p:spPr>
          <a:xfrm>
            <a:off x="4742640" y="6040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0 acci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32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50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51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58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2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63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25"/>
          <p:cNvGrpSpPr/>
          <p:nvPr/>
        </p:nvGrpSpPr>
        <p:grpSpPr>
          <a:xfrm>
            <a:off x="1265400" y="2882520"/>
            <a:ext cx="3030480" cy="1987560"/>
            <a:chOff x="1265400" y="2882520"/>
            <a:chExt cx="3030480" cy="1987560"/>
          </a:xfrm>
        </p:grpSpPr>
        <p:grpSp>
          <p:nvGrpSpPr>
            <p:cNvPr id="1370" name="Group 26"/>
            <p:cNvGrpSpPr/>
            <p:nvPr/>
          </p:nvGrpSpPr>
          <p:grpSpPr>
            <a:xfrm>
              <a:off x="1265400" y="2882520"/>
              <a:ext cx="3030480" cy="1212840"/>
              <a:chOff x="1265400" y="2882520"/>
              <a:chExt cx="3030480" cy="1212840"/>
            </a:xfrm>
          </p:grpSpPr>
          <p:sp>
            <p:nvSpPr>
              <p:cNvPr id="1371" name="Line 27"/>
              <p:cNvSpPr/>
              <p:nvPr/>
            </p:nvSpPr>
            <p:spPr>
              <a:xfrm flipV="1">
                <a:off x="1265400" y="3369960"/>
                <a:ext cx="888840" cy="72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28"/>
              <p:cNvSpPr/>
              <p:nvPr/>
            </p:nvSpPr>
            <p:spPr>
              <a:xfrm flipV="1">
                <a:off x="3360600" y="2882520"/>
                <a:ext cx="935280" cy="43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Group 29"/>
            <p:cNvGrpSpPr/>
            <p:nvPr/>
          </p:nvGrpSpPr>
          <p:grpSpPr>
            <a:xfrm>
              <a:off x="1265400" y="4119480"/>
              <a:ext cx="3030480" cy="750600"/>
              <a:chOff x="1265400" y="4119480"/>
              <a:chExt cx="3030480" cy="750600"/>
            </a:xfrm>
          </p:grpSpPr>
          <p:sp>
            <p:nvSpPr>
              <p:cNvPr id="1374" name="Line 30"/>
              <p:cNvSpPr/>
              <p:nvPr/>
            </p:nvSpPr>
            <p:spPr>
              <a:xfrm>
                <a:off x="1265400" y="4119480"/>
                <a:ext cx="888840" cy="725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31"/>
              <p:cNvSpPr/>
              <p:nvPr/>
            </p:nvSpPr>
            <p:spPr>
              <a:xfrm flipV="1">
                <a:off x="3360600" y="4431960"/>
                <a:ext cx="935280" cy="43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Rectangle 32"/>
          <p:cNvSpPr/>
          <p:nvPr/>
        </p:nvSpPr>
        <p:spPr>
          <a:xfrm>
            <a:off x="524880" y="574884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weekday/0 accidents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33"/>
          <p:cNvSpPr/>
          <p:nvPr/>
        </p:nvSpPr>
        <p:spPr>
          <a:xfrm>
            <a:off x="4732200" y="559656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/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3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34"/>
          <p:cNvSpPr/>
          <p:nvPr/>
        </p:nvSpPr>
        <p:spPr>
          <a:xfrm>
            <a:off x="3924360" y="6032520"/>
            <a:ext cx="389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35"/>
          <p:cNvSpPr/>
          <p:nvPr/>
        </p:nvSpPr>
        <p:spPr>
          <a:xfrm>
            <a:off x="4742640" y="6040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0 acciden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6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385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386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8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393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398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0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Group 25"/>
          <p:cNvGrpSpPr/>
          <p:nvPr/>
        </p:nvGrpSpPr>
        <p:grpSpPr>
          <a:xfrm>
            <a:off x="1265400" y="2882520"/>
            <a:ext cx="3030480" cy="1212840"/>
            <a:chOff x="1265400" y="2882520"/>
            <a:chExt cx="3030480" cy="1212840"/>
          </a:xfrm>
        </p:grpSpPr>
        <p:sp>
          <p:nvSpPr>
            <p:cNvPr id="1405" name="Line 26"/>
            <p:cNvSpPr/>
            <p:nvPr/>
          </p:nvSpPr>
          <p:spPr>
            <a:xfrm flipV="1">
              <a:off x="1265400" y="336996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7"/>
            <p:cNvSpPr/>
            <p:nvPr/>
          </p:nvSpPr>
          <p:spPr>
            <a:xfrm flipV="1">
              <a:off x="3360600" y="288252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Group 28"/>
          <p:cNvGrpSpPr/>
          <p:nvPr/>
        </p:nvGrpSpPr>
        <p:grpSpPr>
          <a:xfrm>
            <a:off x="1265400" y="4119480"/>
            <a:ext cx="3030480" cy="750600"/>
            <a:chOff x="1265400" y="4119480"/>
            <a:chExt cx="3030480" cy="750600"/>
          </a:xfrm>
        </p:grpSpPr>
        <p:sp>
          <p:nvSpPr>
            <p:cNvPr id="1408" name="Line 29"/>
            <p:cNvSpPr/>
            <p:nvPr/>
          </p:nvSpPr>
          <p:spPr>
            <a:xfrm>
              <a:off x="1265400" y="4119480"/>
              <a:ext cx="888840" cy="72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30"/>
            <p:cNvSpPr/>
            <p:nvPr/>
          </p:nvSpPr>
          <p:spPr>
            <a:xfrm flipV="1">
              <a:off x="3360600" y="4431960"/>
              <a:ext cx="93528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Group 31"/>
          <p:cNvGrpSpPr/>
          <p:nvPr/>
        </p:nvGrpSpPr>
        <p:grpSpPr>
          <a:xfrm>
            <a:off x="524880" y="5596560"/>
            <a:ext cx="7425000" cy="903960"/>
            <a:chOff x="524880" y="5596560"/>
            <a:chExt cx="7425000" cy="903960"/>
          </a:xfrm>
        </p:grpSpPr>
        <p:grpSp>
          <p:nvGrpSpPr>
            <p:cNvPr id="1411" name="Group 32"/>
            <p:cNvGrpSpPr/>
            <p:nvPr/>
          </p:nvGrpSpPr>
          <p:grpSpPr>
            <a:xfrm>
              <a:off x="524880" y="5596560"/>
              <a:ext cx="7298280" cy="612000"/>
              <a:chOff x="524880" y="5596560"/>
              <a:chExt cx="7298280" cy="612000"/>
            </a:xfrm>
          </p:grpSpPr>
          <p:sp>
            <p:nvSpPr>
              <p:cNvPr id="1412" name="Rectangle 33"/>
              <p:cNvSpPr/>
              <p:nvPr/>
            </p:nvSpPr>
            <p:spPr>
              <a:xfrm>
                <a:off x="524880" y="5748840"/>
                <a:ext cx="34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(weekday/0 accidents) 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34"/>
              <p:cNvSpPr/>
              <p:nvPr/>
            </p:nvSpPr>
            <p:spPr>
              <a:xfrm>
                <a:off x="4732200" y="559656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/7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0.1353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35"/>
              <p:cNvSpPr/>
              <p:nvPr/>
            </p:nvSpPr>
            <p:spPr>
              <a:xfrm>
                <a:off x="3924360" y="6032520"/>
                <a:ext cx="389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5" name="Rectangle 36"/>
            <p:cNvSpPr/>
            <p:nvPr/>
          </p:nvSpPr>
          <p:spPr>
            <a:xfrm>
              <a:off x="3918240" y="6040800"/>
              <a:ext cx="40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5/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.1353 + 2/7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.0498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Rectangle 37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2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4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5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421" name="Group 6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422" name="Line 7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8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Text Box 9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10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12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Group 13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429" name="Line 14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15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 Box 16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17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18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434" name="Line 19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Line 20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Text Box 21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22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Group 25"/>
          <p:cNvGrpSpPr/>
          <p:nvPr/>
        </p:nvGrpSpPr>
        <p:grpSpPr>
          <a:xfrm>
            <a:off x="524880" y="5596560"/>
            <a:ext cx="4565880" cy="903960"/>
            <a:chOff x="524880" y="5596560"/>
            <a:chExt cx="4565880" cy="903960"/>
          </a:xfrm>
        </p:grpSpPr>
        <p:sp>
          <p:nvSpPr>
            <p:cNvPr id="1441" name="Rectangle 26"/>
            <p:cNvSpPr/>
            <p:nvPr/>
          </p:nvSpPr>
          <p:spPr>
            <a:xfrm>
              <a:off x="524880" y="5748840"/>
              <a:ext cx="34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/0 accidents)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27"/>
            <p:cNvSpPr/>
            <p:nvPr/>
          </p:nvSpPr>
          <p:spPr>
            <a:xfrm>
              <a:off x="3995640" y="5596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966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28"/>
            <p:cNvSpPr/>
            <p:nvPr/>
          </p:nvSpPr>
          <p:spPr>
            <a:xfrm>
              <a:off x="3924360" y="6032520"/>
              <a:ext cx="113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29"/>
            <p:cNvSpPr/>
            <p:nvPr/>
          </p:nvSpPr>
          <p:spPr>
            <a:xfrm>
              <a:off x="3995640" y="6040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110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Rectangle 30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2"/>
          <p:cNvSpPr/>
          <p:nvPr/>
        </p:nvSpPr>
        <p:spPr>
          <a:xfrm>
            <a:off x="3835440" y="5711760"/>
            <a:ext cx="18032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0" y="0"/>
            <a:ext cx="9144000" cy="2589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5"/>
          <p:cNvSpPr/>
          <p:nvPr/>
        </p:nvSpPr>
        <p:spPr>
          <a:xfrm>
            <a:off x="414720" y="2635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0" name="Group 6"/>
          <p:cNvGrpSpPr/>
          <p:nvPr/>
        </p:nvGrpSpPr>
        <p:grpSpPr>
          <a:xfrm>
            <a:off x="1265400" y="3108240"/>
            <a:ext cx="2395440" cy="1951560"/>
            <a:chOff x="1265400" y="3108240"/>
            <a:chExt cx="2395440" cy="1951560"/>
          </a:xfrm>
        </p:grpSpPr>
        <p:grpSp>
          <p:nvGrpSpPr>
            <p:cNvPr id="1451" name="Group 7"/>
            <p:cNvGrpSpPr/>
            <p:nvPr/>
          </p:nvGrpSpPr>
          <p:grpSpPr>
            <a:xfrm>
              <a:off x="1265400" y="3367080"/>
              <a:ext cx="901440" cy="1484280"/>
              <a:chOff x="1265400" y="3367080"/>
              <a:chExt cx="901440" cy="1484280"/>
            </a:xfrm>
          </p:grpSpPr>
          <p:sp>
            <p:nvSpPr>
              <p:cNvPr id="1452" name="Line 8"/>
              <p:cNvSpPr/>
              <p:nvPr/>
            </p:nvSpPr>
            <p:spPr>
              <a:xfrm flipV="1">
                <a:off x="1265400" y="3367080"/>
                <a:ext cx="901440" cy="74160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9"/>
              <p:cNvSpPr/>
              <p:nvPr/>
            </p:nvSpPr>
            <p:spPr>
              <a:xfrm>
                <a:off x="1265400" y="4110120"/>
                <a:ext cx="901440" cy="74124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4" name="Text Box 10"/>
            <p:cNvSpPr/>
            <p:nvPr/>
          </p:nvSpPr>
          <p:spPr>
            <a:xfrm>
              <a:off x="2230560" y="310824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Text Box 11"/>
            <p:cNvSpPr/>
            <p:nvPr/>
          </p:nvSpPr>
          <p:spPr>
            <a:xfrm>
              <a:off x="2230560" y="4660920"/>
              <a:ext cx="143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week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12"/>
            <p:cNvSpPr/>
            <p:nvPr/>
          </p:nvSpPr>
          <p:spPr>
            <a:xfrm>
              <a:off x="1303200" y="33591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5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Text Box 13"/>
            <p:cNvSpPr/>
            <p:nvPr/>
          </p:nvSpPr>
          <p:spPr>
            <a:xfrm>
              <a:off x="1303200" y="44499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  <a:ea typeface="Arial"/>
                </a:rPr>
                <a:t>2/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Group 14"/>
          <p:cNvGrpSpPr/>
          <p:nvPr/>
        </p:nvGrpSpPr>
        <p:grpSpPr>
          <a:xfrm>
            <a:off x="3379680" y="2890800"/>
            <a:ext cx="901440" cy="845640"/>
            <a:chOff x="3379680" y="2890800"/>
            <a:chExt cx="901440" cy="845640"/>
          </a:xfrm>
        </p:grpSpPr>
        <p:sp>
          <p:nvSpPr>
            <p:cNvPr id="1459" name="Line 15"/>
            <p:cNvSpPr/>
            <p:nvPr/>
          </p:nvSpPr>
          <p:spPr>
            <a:xfrm flipV="1">
              <a:off x="3379680" y="289080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16"/>
            <p:cNvSpPr/>
            <p:nvPr/>
          </p:nvSpPr>
          <p:spPr>
            <a:xfrm>
              <a:off x="3379680" y="3314160"/>
              <a:ext cx="901440" cy="422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Text Box 17"/>
          <p:cNvSpPr/>
          <p:nvPr/>
        </p:nvSpPr>
        <p:spPr>
          <a:xfrm>
            <a:off x="4410000" y="256716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18"/>
          <p:cNvSpPr/>
          <p:nvPr/>
        </p:nvSpPr>
        <p:spPr>
          <a:xfrm>
            <a:off x="4410000" y="353232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Group 19"/>
          <p:cNvGrpSpPr/>
          <p:nvPr/>
        </p:nvGrpSpPr>
        <p:grpSpPr>
          <a:xfrm>
            <a:off x="3379680" y="4444920"/>
            <a:ext cx="901440" cy="846360"/>
            <a:chOff x="3379680" y="4444920"/>
            <a:chExt cx="901440" cy="846360"/>
          </a:xfrm>
        </p:grpSpPr>
        <p:sp>
          <p:nvSpPr>
            <p:cNvPr id="1464" name="Line 20"/>
            <p:cNvSpPr/>
            <p:nvPr/>
          </p:nvSpPr>
          <p:spPr>
            <a:xfrm flipV="1">
              <a:off x="3379680" y="444492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Line 21"/>
            <p:cNvSpPr/>
            <p:nvPr/>
          </p:nvSpPr>
          <p:spPr>
            <a:xfrm>
              <a:off x="3379680" y="4868640"/>
              <a:ext cx="901440" cy="4226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Text Box 22"/>
          <p:cNvSpPr/>
          <p:nvPr/>
        </p:nvSpPr>
        <p:spPr>
          <a:xfrm>
            <a:off x="4410000" y="4157640"/>
            <a:ext cx="14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23"/>
          <p:cNvSpPr/>
          <p:nvPr/>
        </p:nvSpPr>
        <p:spPr>
          <a:xfrm>
            <a:off x="4410000" y="50720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other than 0 ac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24"/>
          <p:cNvSpPr/>
          <p:nvPr/>
        </p:nvSpPr>
        <p:spPr>
          <a:xfrm>
            <a:off x="3306600" y="268272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1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5"/>
          <p:cNvSpPr/>
          <p:nvPr/>
        </p:nvSpPr>
        <p:spPr>
          <a:xfrm>
            <a:off x="3306600" y="4221000"/>
            <a:ext cx="11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0.04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26"/>
          <p:cNvGrpSpPr/>
          <p:nvPr/>
        </p:nvGrpSpPr>
        <p:grpSpPr>
          <a:xfrm>
            <a:off x="531360" y="5790240"/>
            <a:ext cx="5015880" cy="459720"/>
            <a:chOff x="531360" y="5790240"/>
            <a:chExt cx="5015880" cy="459720"/>
          </a:xfrm>
        </p:grpSpPr>
        <p:sp>
          <p:nvSpPr>
            <p:cNvPr id="1471" name="Rectangle 27"/>
            <p:cNvSpPr/>
            <p:nvPr/>
          </p:nvSpPr>
          <p:spPr>
            <a:xfrm>
              <a:off x="531360" y="5790240"/>
              <a:ext cx="34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(weekday/0 accidents)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28"/>
            <p:cNvSpPr/>
            <p:nvPr/>
          </p:nvSpPr>
          <p:spPr>
            <a:xfrm>
              <a:off x="3798360" y="579024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8717 (4sf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Rectangle 29"/>
          <p:cNvSpPr/>
          <p:nvPr/>
        </p:nvSpPr>
        <p:spPr>
          <a:xfrm>
            <a:off x="388800" y="-241560"/>
            <a:ext cx="875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ver a long period of time, the number of accidents per day o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 road has been found to have a mean of 2 on weekdays and 3 at the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What is the probability that there are 3 accidents on a day chos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at ran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If there are no accidents on a particular day, calculat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probability that it is a week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2"/>
          <p:cNvSpPr/>
          <p:nvPr/>
        </p:nvSpPr>
        <p:spPr>
          <a:xfrm>
            <a:off x="0" y="228600"/>
            <a:ext cx="9144000" cy="1889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4"/>
          <p:cNvSpPr/>
          <p:nvPr/>
        </p:nvSpPr>
        <p:spPr>
          <a:xfrm>
            <a:off x="3048120" y="6324480"/>
            <a:ext cx="18288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6"/>
          <p:cNvSpPr/>
          <p:nvPr/>
        </p:nvSpPr>
        <p:spPr>
          <a:xfrm>
            <a:off x="392400" y="162360"/>
            <a:ext cx="879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A travel agent receives faxes from either within New Zealand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verseas. The probability that any given fax arrives from a N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ealand number is 0.75.  One day the travel agent receives 10 faxes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at least 6 are from New Zealand numbers, calculate the prob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only 1 of the 10 faxes is from over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7"/>
          <p:cNvSpPr/>
          <p:nvPr/>
        </p:nvSpPr>
        <p:spPr>
          <a:xfrm>
            <a:off x="409680" y="261504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10 and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0.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8"/>
          <p:cNvSpPr/>
          <p:nvPr/>
        </p:nvSpPr>
        <p:spPr>
          <a:xfrm>
            <a:off x="405000" y="218952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ppo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number of faxes from overs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9"/>
          <p:cNvSpPr/>
          <p:nvPr/>
        </p:nvSpPr>
        <p:spPr>
          <a:xfrm>
            <a:off x="3522600" y="218592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State the random variabl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10"/>
          <p:cNvSpPr/>
          <p:nvPr/>
        </p:nvSpPr>
        <p:spPr>
          <a:xfrm>
            <a:off x="3273480" y="2651760"/>
            <a:ext cx="58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Give the values of the two parameter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11"/>
          <p:cNvSpPr/>
          <p:nvPr/>
        </p:nvSpPr>
        <p:spPr>
          <a:xfrm>
            <a:off x="4811760" y="310248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hat are we trying to f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12"/>
          <p:cNvSpPr/>
          <p:nvPr/>
        </p:nvSpPr>
        <p:spPr>
          <a:xfrm>
            <a:off x="369720" y="308304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We want the probability that 1 fax is from overseas </a:t>
            </a:r>
            <a:br>
              <a:rPr sz="2400"/>
            </a:br>
            <a:r>
              <a:rPr b="0" i="1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iven that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4 or fewer are from overseas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1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5" name="Object 14"/>
          <p:cNvGraphicFramePr/>
          <p:nvPr/>
        </p:nvGraphicFramePr>
        <p:xfrm>
          <a:off x="463680" y="4214880"/>
          <a:ext cx="25779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214880"/>
                    <a:ext cx="2577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15"/>
          <p:cNvGraphicFramePr/>
          <p:nvPr/>
        </p:nvGraphicFramePr>
        <p:xfrm>
          <a:off x="3078000" y="4079880"/>
          <a:ext cx="248940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8000" y="4079880"/>
                    <a:ext cx="24894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9" name="Object 16"/>
          <p:cNvGraphicFramePr/>
          <p:nvPr/>
        </p:nvGraphicFramePr>
        <p:xfrm>
          <a:off x="2828880" y="4875120"/>
          <a:ext cx="158760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8880" y="4875120"/>
                    <a:ext cx="158760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Text Box 17"/>
          <p:cNvSpPr/>
          <p:nvPr/>
        </p:nvSpPr>
        <p:spPr>
          <a:xfrm>
            <a:off x="2743200" y="5562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0.187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.92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18"/>
          <p:cNvSpPr/>
          <p:nvPr/>
        </p:nvSpPr>
        <p:spPr>
          <a:xfrm>
            <a:off x="2743200" y="6400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=  0.2036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19"/>
          <p:cNvSpPr/>
          <p:nvPr/>
        </p:nvSpPr>
        <p:spPr>
          <a:xfrm>
            <a:off x="4343400" y="5638680"/>
            <a:ext cx="312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Using Graphics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2"/>
          <p:cNvSpPr/>
          <p:nvPr/>
        </p:nvSpPr>
        <p:spPr>
          <a:xfrm>
            <a:off x="0" y="0"/>
            <a:ext cx="9144000" cy="25812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5"/>
          <p:cNvSpPr/>
          <p:nvPr/>
        </p:nvSpPr>
        <p:spPr>
          <a:xfrm>
            <a:off x="0" y="118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raffic research unit has established that the speeds of both cars and motorbikes on a particular point on a road can be modelled by normal distributions. The speeds of ca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98 km/h and standard deviation 7 km/h and the speeds of motorbik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have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2 km/h and standard deviation 4 km/h. The Police ask the un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termine a speed at which each type of vehic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qually lik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o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Group 6"/>
          <p:cNvGrpSpPr/>
          <p:nvPr/>
        </p:nvGrpSpPr>
        <p:grpSpPr>
          <a:xfrm>
            <a:off x="5132520" y="3951360"/>
            <a:ext cx="4011480" cy="1954800"/>
            <a:chOff x="5132520" y="3951360"/>
            <a:chExt cx="4011480" cy="1954800"/>
          </a:xfrm>
        </p:grpSpPr>
        <p:grpSp>
          <p:nvGrpSpPr>
            <p:cNvPr id="1498" name="Group 7"/>
            <p:cNvGrpSpPr/>
            <p:nvPr/>
          </p:nvGrpSpPr>
          <p:grpSpPr>
            <a:xfrm>
              <a:off x="5137200" y="5492880"/>
              <a:ext cx="4006800" cy="413280"/>
              <a:chOff x="5137200" y="5492880"/>
              <a:chExt cx="4006800" cy="413280"/>
            </a:xfrm>
          </p:grpSpPr>
          <p:grpSp>
            <p:nvGrpSpPr>
              <p:cNvPr id="1499" name="Group 8"/>
              <p:cNvGrpSpPr/>
              <p:nvPr/>
            </p:nvGrpSpPr>
            <p:grpSpPr>
              <a:xfrm>
                <a:off x="5137200" y="5492880"/>
                <a:ext cx="3597120" cy="413280"/>
                <a:chOff x="5137200" y="5492880"/>
                <a:chExt cx="3597120" cy="413280"/>
              </a:xfrm>
            </p:grpSpPr>
            <p:sp>
              <p:nvSpPr>
                <p:cNvPr id="1500" name="Line 9"/>
                <p:cNvSpPr/>
                <p:nvPr/>
              </p:nvSpPr>
              <p:spPr>
                <a:xfrm>
                  <a:off x="5388120" y="5492880"/>
                  <a:ext cx="332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Line 10"/>
                <p:cNvSpPr/>
                <p:nvPr/>
              </p:nvSpPr>
              <p:spPr>
                <a:xfrm>
                  <a:off x="53895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Line 11"/>
                <p:cNvSpPr/>
                <p:nvPr/>
              </p:nvSpPr>
              <p:spPr>
                <a:xfrm>
                  <a:off x="62215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Line 12"/>
                <p:cNvSpPr/>
                <p:nvPr/>
              </p:nvSpPr>
              <p:spPr>
                <a:xfrm>
                  <a:off x="78850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Line 13"/>
                <p:cNvSpPr/>
                <p:nvPr/>
              </p:nvSpPr>
              <p:spPr>
                <a:xfrm>
                  <a:off x="83008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Line 14"/>
                <p:cNvSpPr/>
                <p:nvPr/>
              </p:nvSpPr>
              <p:spPr>
                <a:xfrm>
                  <a:off x="87184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Line 15"/>
                <p:cNvSpPr/>
                <p:nvPr/>
              </p:nvSpPr>
              <p:spPr>
                <a:xfrm>
                  <a:off x="66373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16"/>
                <p:cNvSpPr/>
                <p:nvPr/>
              </p:nvSpPr>
              <p:spPr>
                <a:xfrm>
                  <a:off x="705312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17"/>
                <p:cNvSpPr/>
                <p:nvPr/>
              </p:nvSpPr>
              <p:spPr>
                <a:xfrm>
                  <a:off x="746928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18"/>
                <p:cNvSpPr/>
                <p:nvPr/>
              </p:nvSpPr>
              <p:spPr>
                <a:xfrm>
                  <a:off x="5805360" y="5497560"/>
                  <a:ext cx="0" cy="128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Text Box 19"/>
                <p:cNvSpPr/>
                <p:nvPr/>
              </p:nvSpPr>
              <p:spPr>
                <a:xfrm>
                  <a:off x="51372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Text Box 20"/>
                <p:cNvSpPr/>
                <p:nvPr/>
              </p:nvSpPr>
              <p:spPr>
                <a:xfrm>
                  <a:off x="557208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Text Box 21"/>
                <p:cNvSpPr/>
                <p:nvPr/>
              </p:nvSpPr>
              <p:spPr>
                <a:xfrm>
                  <a:off x="600696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Text Box 22"/>
                <p:cNvSpPr/>
                <p:nvPr/>
              </p:nvSpPr>
              <p:spPr>
                <a:xfrm>
                  <a:off x="6440400" y="5568840"/>
                  <a:ext cx="500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9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Text Box 23"/>
                <p:cNvSpPr/>
                <p:nvPr/>
              </p:nvSpPr>
              <p:spPr>
                <a:xfrm>
                  <a:off x="68151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Text Box 24"/>
                <p:cNvSpPr/>
                <p:nvPr/>
              </p:nvSpPr>
              <p:spPr>
                <a:xfrm>
                  <a:off x="72262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Text Box 25"/>
                <p:cNvSpPr/>
                <p:nvPr/>
              </p:nvSpPr>
              <p:spPr>
                <a:xfrm>
                  <a:off x="763596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Text Box 26"/>
                <p:cNvSpPr/>
                <p:nvPr/>
              </p:nvSpPr>
              <p:spPr>
                <a:xfrm>
                  <a:off x="8047080" y="5568840"/>
                  <a:ext cx="687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8" name="Text Box 27"/>
              <p:cNvSpPr/>
              <p:nvPr/>
            </p:nvSpPr>
            <p:spPr>
              <a:xfrm>
                <a:off x="8456760" y="5568840"/>
                <a:ext cx="68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Group 28"/>
            <p:cNvGrpSpPr/>
            <p:nvPr/>
          </p:nvGrpSpPr>
          <p:grpSpPr>
            <a:xfrm>
              <a:off x="5132520" y="3951360"/>
              <a:ext cx="3582720" cy="1596960"/>
              <a:chOff x="5132520" y="3951360"/>
              <a:chExt cx="3582720" cy="1596960"/>
            </a:xfrm>
          </p:grpSpPr>
          <p:grpSp>
            <p:nvGrpSpPr>
              <p:cNvPr id="1520" name="Group 29"/>
              <p:cNvGrpSpPr/>
              <p:nvPr/>
            </p:nvGrpSpPr>
            <p:grpSpPr>
              <a:xfrm>
                <a:off x="5132520" y="3951360"/>
                <a:ext cx="3582720" cy="1596960"/>
                <a:chOff x="5132520" y="3951360"/>
                <a:chExt cx="3582720" cy="1596960"/>
              </a:xfrm>
            </p:grpSpPr>
            <p:grpSp>
              <p:nvGrpSpPr>
                <p:cNvPr id="1521" name="Group 30"/>
                <p:cNvGrpSpPr/>
                <p:nvPr/>
              </p:nvGrpSpPr>
              <p:grpSpPr>
                <a:xfrm>
                  <a:off x="5164200" y="3951360"/>
                  <a:ext cx="3551040" cy="1501560"/>
                  <a:chOff x="5164200" y="3951360"/>
                  <a:chExt cx="3551040" cy="1501560"/>
                </a:xfrm>
              </p:grpSpPr>
              <p:grpSp>
                <p:nvGrpSpPr>
                  <p:cNvPr id="1522" name="Group 31"/>
                  <p:cNvGrpSpPr/>
                  <p:nvPr/>
                </p:nvGrpSpPr>
                <p:grpSpPr>
                  <a:xfrm>
                    <a:off x="5164200" y="3951360"/>
                    <a:ext cx="3459960" cy="1501560"/>
                    <a:chOff x="5164200" y="3951360"/>
                    <a:chExt cx="3459960" cy="1501560"/>
                  </a:xfrm>
                </p:grpSpPr>
                <p:sp>
                  <p:nvSpPr>
                    <p:cNvPr id="1523" name="Freeform 32"/>
                    <p:cNvSpPr/>
                    <p:nvPr/>
                  </p:nvSpPr>
                  <p:spPr>
                    <a:xfrm>
                      <a:off x="5164200" y="3951360"/>
                      <a:ext cx="1731600" cy="1501560"/>
                    </a:xfrm>
                    <a:custGeom>
                      <a:avLst/>
                      <a:gdLst>
                        <a:gd name="textAreaLeft" fmla="*/ 0 w 1731600"/>
                        <a:gd name="textAreaRight" fmla="*/ 1731960 w 173160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Freeform 33"/>
                    <p:cNvSpPr/>
                    <p:nvPr/>
                  </p:nvSpPr>
                  <p:spPr>
                    <a:xfrm flipH="1">
                      <a:off x="6891840" y="3951360"/>
                      <a:ext cx="1731960" cy="1501560"/>
                    </a:xfrm>
                    <a:custGeom>
                      <a:avLst/>
                      <a:gdLst>
                        <a:gd name="textAreaLeft" fmla="*/ -360 w 1731960"/>
                        <a:gd name="textAreaRight" fmla="*/ 1731960 w 1731960"/>
                        <a:gd name="textAreaTop" fmla="*/ 0 h 1501560"/>
                        <a:gd name="textAreaBottom" fmla="*/ 1501920 h 1501560"/>
                      </a:gdLst>
                      <a:ahLst/>
                      <a:rect l="textAreaLeft" t="textAreaTop" r="textAreaRight" b="textAreaBottom"/>
                      <a:pathLst>
                        <a:path w="2827" h="5296">
                          <a:moveTo>
                            <a:pt x="0" y="5287"/>
                          </a:moveTo>
                          <a:cubicBezTo>
                            <a:pt x="979" y="5296"/>
                            <a:pt x="1219" y="5204"/>
                            <a:pt x="1531" y="4528"/>
                          </a:cubicBezTo>
                          <a:cubicBezTo>
                            <a:pt x="1907" y="3728"/>
                            <a:pt x="2151" y="2027"/>
                            <a:pt x="2351" y="1216"/>
                          </a:cubicBezTo>
                          <a:cubicBezTo>
                            <a:pt x="2551" y="406"/>
                            <a:pt x="2627" y="68"/>
                            <a:pt x="2827" y="0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33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5" name="Line 34"/>
                  <p:cNvSpPr/>
                  <p:nvPr/>
                </p:nvSpPr>
                <p:spPr>
                  <a:xfrm>
                    <a:off x="8610480" y="5450040"/>
                    <a:ext cx="104760" cy="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6" name="Rectangle 35"/>
                <p:cNvSpPr/>
                <p:nvPr/>
              </p:nvSpPr>
              <p:spPr>
                <a:xfrm>
                  <a:off x="5132520" y="5405400"/>
                  <a:ext cx="247680" cy="14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7" name="Text Box 36"/>
              <p:cNvSpPr/>
              <p:nvPr/>
            </p:nvSpPr>
            <p:spPr>
              <a:xfrm>
                <a:off x="6172200" y="4140360"/>
                <a:ext cx="36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8" name="Group 37"/>
          <p:cNvGrpSpPr/>
          <p:nvPr/>
        </p:nvGrpSpPr>
        <p:grpSpPr>
          <a:xfrm>
            <a:off x="5931000" y="2795760"/>
            <a:ext cx="2501640" cy="2700000"/>
            <a:chOff x="5931000" y="2795760"/>
            <a:chExt cx="2501640" cy="2700000"/>
          </a:xfrm>
        </p:grpSpPr>
        <p:grpSp>
          <p:nvGrpSpPr>
            <p:cNvPr id="1529" name="Group 38"/>
            <p:cNvGrpSpPr/>
            <p:nvPr/>
          </p:nvGrpSpPr>
          <p:grpSpPr>
            <a:xfrm>
              <a:off x="5931000" y="2795760"/>
              <a:ext cx="2501640" cy="2700000"/>
              <a:chOff x="5931000" y="2795760"/>
              <a:chExt cx="2501640" cy="2700000"/>
            </a:xfrm>
          </p:grpSpPr>
          <p:sp>
            <p:nvSpPr>
              <p:cNvPr id="1530" name="Freeform 39"/>
              <p:cNvSpPr/>
              <p:nvPr/>
            </p:nvSpPr>
            <p:spPr>
              <a:xfrm>
                <a:off x="5931000" y="2795760"/>
                <a:ext cx="1251720" cy="2700000"/>
              </a:xfrm>
              <a:custGeom>
                <a:avLst/>
                <a:gdLst>
                  <a:gd name="textAreaLeft" fmla="*/ 0 w 1251720"/>
                  <a:gd name="textAreaRight" fmla="*/ 1252080 w 125172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40"/>
              <p:cNvSpPr/>
              <p:nvPr/>
            </p:nvSpPr>
            <p:spPr>
              <a:xfrm flipH="1">
                <a:off x="7180560" y="2795760"/>
                <a:ext cx="1252080" cy="2700000"/>
              </a:xfrm>
              <a:custGeom>
                <a:avLst/>
                <a:gdLst>
                  <a:gd name="textAreaLeft" fmla="*/ 360 w 1252080"/>
                  <a:gd name="textAreaRight" fmla="*/ 1252800 w 1252080"/>
                  <a:gd name="textAreaTop" fmla="*/ 0 h 2700000"/>
                  <a:gd name="textAreaBottom" fmla="*/ 2700360 h 270000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28440">
                <a:solidFill>
                  <a:srgbClr val="cc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2" name="Text Box 41"/>
            <p:cNvSpPr/>
            <p:nvPr/>
          </p:nvSpPr>
          <p:spPr>
            <a:xfrm>
              <a:off x="7454880" y="309888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Rectangle 42"/>
          <p:cNvSpPr/>
          <p:nvPr/>
        </p:nvSpPr>
        <p:spPr>
          <a:xfrm>
            <a:off x="398160" y="2610000"/>
            <a:ext cx="39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he problem is to determin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k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43"/>
          <p:cNvSpPr/>
          <p:nvPr/>
        </p:nvSpPr>
        <p:spPr>
          <a:xfrm>
            <a:off x="403200" y="3465720"/>
            <a:ext cx="54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graph shows the relationship between the two distrib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8-07T09:27:56Z</dcterms:modified>
  <cp:revision>1585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